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13E-D6C0-404B-AF7D-2CF989BC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FA8-A6E6-4DC2-86E0-B930EA7E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370-908C-478A-8995-7F05BB2A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592-74F6-473E-B561-62D2A4E2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93DC-55E3-45EB-ABCD-A90F292A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3DE-E7A4-4E25-9B14-B7266302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7DF-D475-46B7-A428-49D3609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C388-7DF4-4982-84EB-0852BC0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E0E7-3D76-45E6-B90F-CBCE5AC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6049-0926-4A79-9730-CE9BE876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382-36A3-4584-BA63-0D7E54F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3BD-881A-4426-A5EB-D277962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6872-E0F9-409C-9843-A2AB438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1F21-5816-4CBE-90A9-A33DC13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D986-D5F4-42D7-8C02-1BD6825B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1DF2-F6E1-4373-9DEB-40E9551E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9915-3918-4F42-9FAD-6B6A4018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C428-C4F1-4743-9E67-A9E22D0D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44F5-D40A-477D-A9F4-2338683E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53B6-FEAE-4092-B440-FC16CBD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9CE6-5E08-4A0C-9A47-237C91C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0C23-1C87-4EE7-BEB6-9D45524F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84E-0536-43AF-BF24-DF2CEFF5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931C-9AD2-49FC-996E-DFAAB60D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98BF-53BF-4D3C-A996-6976BE78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292F-7B80-4A6D-B6BB-B9558A6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B7FF-5C3E-46DC-AE9C-33F53FA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A99D-629A-4646-B6F8-C795A4F4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5111-E136-48BC-A97F-5BED47B9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C280-FFDA-4450-9358-15A98AE3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DDAC-8CA3-43C9-B971-D4434C32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FD5C-87CF-43A5-BBA0-82A6549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0E92-738C-4CEE-8C89-78D7F63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B72-047D-496A-A28D-7227FC98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52E2-3FE7-4A40-97B8-655BFF9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766E-1D4B-4BDD-8F86-2F91DA3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C3A8-C892-4176-8A16-BAFD0BE6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0B4B-C446-4F1A-B699-2F0D1EB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3830-1CC2-4CE1-B202-21F5C50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6E01-6109-4C11-A555-3362EC70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58F7-FC70-4AC1-A7C2-4D414B64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8BBD-5C0E-4C6F-8CD5-C914FC74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F9CF-39BB-4F47-83C2-5B378D82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62C2-B74E-4C1C-89BA-C16DF6E9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DFC-3043-4873-A5D7-8007FA0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D73F-5EF7-445A-8FA5-D45F68D8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4796-95E9-4311-9533-E752ABBE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0648-8AFD-47C7-80A4-7BDECA3E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CEB2-A818-449A-9379-74F84FA1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8E2C-3242-4067-B782-22EBCD9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DD6C4-3C68-40EB-8C42-81110D22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FE77-ABC3-4E56-A4C6-A84DFA3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F839-539A-4E18-A86E-235150C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FF1E9-076E-494E-874E-8A54E9EE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EE0E-4370-42B3-9ACB-831908D6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258-96A7-4D58-B8CA-BEF79571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FC72-AA94-41B2-B170-252613D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04B1-C32F-42BE-AFE1-A0EB2DA9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8EBCD-8F76-4327-8F63-6353375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3FC3-B308-436D-BCBD-4720FE4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426A-5E5A-44E8-93F0-3919BBA6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4562-F9BB-4D8C-9C1D-2D5444D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347E-D48B-4AE2-A819-750B1E38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0312-99E8-4547-846B-513CBE0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9AEB-4EC8-4BB2-B6D5-5B40BE2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08ADF-427E-4DC6-BCD0-1959AF5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0C2-0937-431A-956E-09A6B7E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A298D-FD1E-40EB-BF00-E0CB2BCB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07FD-1107-4B95-96ED-FE3785B8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21291-EFBF-44C4-A24B-A5CF3540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817-5EDB-4FC2-841C-0EC5F78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36C-E28A-4BFD-BCBC-317CAA8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299-1A94-4BA8-92F3-EF71000EE799}" type="datetime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B10-BA61-41E4-A080-112979DB45CD}" type="slidenum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8375760" cy="1652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6944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90DF-0856-4C03-83F7-9177E78BD180}" type="datetime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3F9E-29D2-456A-8A94-80FC83BAEB1F}" type="slidenum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8375760" cy="1652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6944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8375760" cy="1652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6944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4716-44B3-482D-BCC4-E9425E8FA612}" type="datetime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8375760" cy="1652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6944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85F-8D0F-4E98-ACEF-579593B5C0C4}" type="datetime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8375760" cy="1652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6944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B6E-BF03-4463-974D-378328BA8F1F}" type="datetime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8375760" cy="1652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6944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D08-3755-4F6E-AE07-CD7EA724ADE7}" type="datetime">
              <a:rPr b="0" lang="ja-JP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  <a:ea typeface="メイリオ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184-B940-49C4-83F8-AADB0E48A6B3}" type="slidenum">
              <a:rPr b="0" lang="ja-JP" sz="1200" spc="-1" strike="noStrike">
                <a:solidFill>
                  <a:srgbClr val="898989"/>
                </a:solidFill>
                <a:latin typeface="Segoe UI"/>
                <a:ea typeface="メイリオ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  <a:ea typeface="メイリオ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684360" y="461880"/>
            <a:ext cx="78469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2B9F-629C-428B-9125-1A8DEFBCE02C}" type="slidenum">
              <a:rPr b="0" lang="ja-JP" sz="1200" spc="-1" strike="noStrike">
                <a:solidFill>
                  <a:srgbClr val="898989"/>
                </a:solidFill>
                <a:latin typeface="Segoe UI"/>
                <a:ea typeface="メイリオ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  <a:ea typeface="メイリオ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92120" y="841320"/>
            <a:ext cx="808524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9A3-4D25-401A-B39C-7CD2EF08171D}" type="slidenum">
              <a:rPr b="0" lang="ja-JP" sz="1200" spc="-1" strike="noStrike">
                <a:solidFill>
                  <a:srgbClr val="898989"/>
                </a:solidFill>
                <a:latin typeface="Segoe UI"/>
                <a:ea typeface="メイリオ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  <a:ea typeface="メイリオ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22280" y="1052640"/>
            <a:ext cx="82771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9:36Z</dcterms:modified>
  <cp:revision>11</cp:revision>
  <dc:subject/>
  <dc:title>PowerPoint プレゼンテーション</dc:title>
</cp:coreProperties>
</file>