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54F-A9B3-4DED-954F-518DE2CC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A24-D3FE-4CDC-9A13-12F91BDF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8713D-FF78-4168-A474-ACE288B3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E79B0-ED30-4554-A8C6-98DC014E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7392A-B12D-4641-854A-BC7AC583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8D00A-A052-44E7-A304-E1E06726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9C9E0-6909-4A9A-B199-7F835BCC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CC54B-660F-41BC-A62F-762ADE7B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A6B7D-DC14-4B97-9D20-6A7AD8C8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65D73-C197-4237-9B0B-8B8119F9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DEA24-D9E4-4F97-BD12-ADDA1FC3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7C67B-FDCA-4A48-BC21-C60B5A26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BDC-233A-4F57-9DDE-3850CEEC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1F7B3-3FDA-4F03-A873-ED651932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EE70B-D04B-4CDE-8D9E-4984090C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3292D-18BF-4968-9278-16F585C3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17283-C83F-44A0-8FFA-9EA3ADD5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0B069-519A-4410-84CC-202000D0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221D1-7AF0-473B-BDC7-1BF27B59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6D281-DBF5-4123-A7FA-AFB0773D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8A935-B66A-477E-A7BF-D8284326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39555-1842-4096-923C-DA7978C9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9421D-BBC3-464D-85A1-EA0D6615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B6A-5B0C-41A1-84F8-1EA1C2BD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61085-D14F-488E-AF94-2B38B191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AE8A2-07E5-4D40-B884-641726DC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7B1FB-C31E-4E6C-81D7-C29B1484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22895-DA68-4B57-9AC7-4786B62C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05954-8EED-4094-9CD0-FFA923EC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DE059-29EC-4E9C-9543-9A1E229A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A47D0-32C0-47EC-97BB-37DC8061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8C5EC-34AE-418A-A4E6-E9673875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01BBE-C98B-495B-87CB-7ADAA063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4B9CC-1E6D-4404-A1C2-81A4547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ACF3-39F0-46CF-B5A4-754488C7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FFF57-147A-4124-ABD8-38575B7B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3CB20-19DE-4BD0-A977-D9DA479B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0F5EB-06D3-451B-9380-D36CE6BA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583D6-B4CA-4C72-8B87-74B1B843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F4C02-3652-4298-A332-550317F0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2493D-0377-4114-B391-B7127890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E8B4A-F0E2-4253-B6AA-5D52AE78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961BA-3E62-4042-8520-C4860234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0EB31-4635-44D2-BD2A-31E4C65B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E100A-0DF4-4CE0-84AB-949859D8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9AB3-3AEF-469F-9EF9-B5FB1C8D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40DFB-758B-43F2-A69E-F5224DF5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6D83A-0340-4FC3-A7C8-4416A409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FF2B9-C4D5-4AE3-AAF0-09F2A19D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5682B-8929-49A5-9879-A91CD0CD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C3D46-3059-469B-ABF4-E2BEA313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5EBEF-EDDC-42F9-9D4B-9013352C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976C1-A5F8-4844-B3CB-F7279190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39DFB-8674-47EC-817F-EDDF22F6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370E5-17AE-4422-8341-5EBA4897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E030D7-F68E-460C-9A14-A372816E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92BA-3AF9-4B50-94D9-A4916296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379FB-E6E3-4846-BD86-B2881B80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19C28-D37A-4D85-91E9-A3B739F6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937BE-5E99-4A09-A3C8-F5DEED25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A26BE-791A-4691-9CBB-52EC62ED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DC333-4695-4010-ADF9-2E4B864D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1B5EE-EDE5-4A38-A4B6-A8CDCD58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646DA-4765-4C5F-991F-1FE04254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94281-EFD4-43C5-8D7E-C1DF1517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94DD9-DB37-4607-BA0C-D8935E82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7D50A-8B4B-4EC0-867F-BDDFBF05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4F9E-3E9A-4563-BA96-9556E1E0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474C3-0F53-4647-B62B-FD0ED900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CAE03-B5B5-45DA-9F7D-D01E46F3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63715-7633-4E44-A133-ECF7704C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3BCCE-C02C-48EE-B8E1-C82B9621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83F83-B4C1-44E7-A986-418E5B74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49ED3-A4C8-4CDE-9E91-C1AF8BDB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404C3-AA3E-45EB-B9C5-0723F507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10FA7-9D7B-421B-8BB5-2A9CA1C7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6863E-D22B-49B0-8849-D49C2067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CC3EE-FE66-41CD-BA16-CFF25EE0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DC6C-7D83-469A-85AF-4996826D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A8ABB-3B8B-4C66-A171-734576DB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0EAF8-E391-4FF5-8DC7-4B2FD1DB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52A0C-DC97-4E30-8D37-A2E47DE2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5A225-221C-4D46-99C6-718D6989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510A4-C6C1-4EA3-9FD0-34480F8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91106-35AB-4092-8BEF-4B830209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2780B-B5C0-476C-BB0B-7321CE1D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AEEC8-BC39-466F-8946-658BBDF9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3745B2-B7BC-4D4E-897B-E1518106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EF60D-2468-44C8-A3E1-A680A476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D4AF-A8E0-44F6-B615-9636174B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3369EE-48A9-4F58-A9A1-42B30FD6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9770D6-8FC3-4447-93FB-7F435BA5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774A7-0F46-49F8-9DD6-67E243D1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BB35F-068D-4495-BF48-04D6EA5E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F29BE-F896-4800-A7B6-174CEB06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A47E6-8A39-4A35-BA95-EB0711D6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E46156-F564-4166-9412-794A1358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46609F-D615-4D63-BB93-6E83E91F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AAD92-ABBE-46F2-B855-8A210BC3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AA137-EC47-46BA-92AD-A3E5AC62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A3BF-F13F-4F93-8882-8FFB5DE1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948373-4F8B-4B17-82C9-D70DD352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31C5D-EF7A-4C03-A7CE-7DC143EC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0E209-79E7-4AF7-9F14-7746CC2B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0A91D6-D6F3-4A93-BB63-82939D47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C7606A-6E72-4C91-94A0-9773ED61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5E94F-7192-4038-B83B-4701DA07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E92A82-5095-4765-8FE2-6F0F7968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E9E397-5F65-44C6-9B01-8C18554E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6AFEC3-BB42-414F-A9A1-0F7928DE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F7274-8D1F-45D2-8483-122DBD63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2D8-22BF-4F8F-A56F-AC07AD6B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CCC4-2EA9-4A30-809A-20350620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842CB-585B-41F9-AE64-507B93A0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D67EF-9426-49A5-AB6E-7F4DD842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338238-1EC0-4D7B-B536-EC281C9B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DBCFF-11EE-4B44-A6D4-04DF57A4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C7784-2FD5-4D84-96A4-AB6FD3DA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730FC5-F5D2-4D05-9141-825E0BDB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39A4C-FE45-4D6D-B148-99D47B21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E08EA-0AF6-4EC8-971E-28D4BB92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88EF3-EDD6-41B9-ACC1-41CD9111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323957-414A-4D4A-A7A3-DFDA4637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E20D-A6E1-4246-ABCA-6F2519C8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7E4F11-BE30-4CEC-8830-80C74D87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3A15A1-F56B-4CC1-A8BB-E95AC34C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399710-02F1-45F1-BF56-3E7617D9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56B5C-8200-4648-8061-90EF1870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8BAC05-2E0B-441A-8000-95D8C837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01339-32E2-490C-865B-94760400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C980CB-A299-4BEC-824B-6962B2F8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EDDDB5-DF39-4B59-BB2C-38C9D6C2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33B968-2572-4190-AE5F-E3BA0908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9058D9-1FBB-496B-B30E-97CDF0BC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3FA9-2BA4-4C7D-994C-4035C3CF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581CC3-5DB3-42B2-AD98-FF7AFB9E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8913A6-5378-4FCD-9A25-EDB6B4CC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1AA67-DA40-485C-9EF0-FD994FB5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231BF4-FF27-442A-AA3C-21308921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87507A-2581-405D-B6F5-F3BB69A0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BF8FF8-02AA-4495-B092-8A62B099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B5F9EB-7CCE-4A41-B777-A4DC5EED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9F4FF-AA3E-441D-B8F7-17EEC794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FBF7BB-DB65-4DA5-8FE5-E69062A2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C5AFF-3D88-4CC4-84D9-E620BBF9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3098-C1C7-409D-86ED-7DB83D93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0FC9D4-7CBC-41F3-90B3-A842AE79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983E12-98BA-4D8A-84EB-577C2D2D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87554-5352-4E97-A04E-851256B1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19A03B-8785-4D60-AED5-AE0791A7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D8D2D3-8579-496C-BB51-1AAFFFFD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E34B42-90A8-4584-A6AB-152566CD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3E02DC-0928-4C2E-9FD6-51E8AE19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194BF1-5CFD-45EA-9D27-4D80F857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2A0F2C-F830-4640-AC3C-7F1F2660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C401A3-A584-4229-B01E-842BE7A2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F6A3-9861-4F23-A233-3AE446FF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6DB67A-6D4D-4E9D-BB1E-8B51D6A9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C549-4D8C-4741-AF27-C46FA8AC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E0F34-CDE6-4E46-AEC5-CA0AEA99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0BBA0-0921-420B-B21C-9EABE726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2BE6D-AAE3-4F2C-B090-8C6DA304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CA96-F8BD-4E6F-967D-33BE3944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197-D7D2-45B3-B25F-362BD0D4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9DFFC-22C6-4415-B8FA-075CE5A0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F1B8-0CD6-4C88-AE01-6969FCD3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75E8-13EB-4A89-A88C-EBAF6777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AF92-25D8-4585-9B1A-519951B9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526D1-881F-42AB-9CF4-84A0AD1A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F784-F397-4A73-B794-7423A56E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E5456-FCE5-48A7-A8BD-9FE269BF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261D9-1E67-47A4-93F0-5C3B53D6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F1AFA-6992-4D59-929B-F96C3B14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8468E-C5EE-4774-8DEF-FBBD8CB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5D0-2C15-4709-B671-4F9DEEF6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C1AD4-34EB-4F1D-9C40-BE905640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8A8E9-380E-4F24-BE87-CE53EADC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E2759-BA5E-4AC7-B6A4-EFC35840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77F71-9FC1-4158-AFC3-0EDBAC74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3619B-85AA-4A3A-A965-72FAADEE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985B-98D3-40DE-A4D8-65C081E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30CC9-59A3-4589-AABF-B9D7C278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EA9A-1B86-490A-8C12-4E13569F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A81BE-2B0D-4C98-9CDE-7B73F012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2BD85-7FF5-4FB1-BF6C-B9BC6D16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861-7926-4D90-8C72-48D48E97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2BDC1-0FE1-48FC-95BA-34B3A21F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61DBC-F07D-45C8-B497-D1CFACDD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2AC06-53E9-41E9-857B-FB6964F2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0F3A4-13C7-4F49-9C9D-21BFA270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707FC-8B53-4D96-BCF6-1BB26F18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281D4-2EF6-4B88-9C2B-8F05E6A9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682BA-17EA-466E-BCD7-C3431651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B181-A6B3-43F6-99B5-FFD483F2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533F4-DD51-471C-B26D-5273A998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A7B48-D818-4D49-BEC7-D8F30609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5D9-561E-4B17-BED3-68EFA0A7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BE7FB-9E36-4843-A9BD-33E2C4B8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ED103-EBCF-4E83-B5AC-EDA3164A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F3C1F-FCDA-4DE8-BFFF-EEA2074F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35525-C728-43C3-A439-85C45898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E2BD7-A7F4-4958-816C-FDC1890A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4DCBB-3A23-4233-9119-A1CA19BE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76DC7-DF79-4F24-BB6E-F0FBC4AF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B89D8-1CA4-45F3-BACE-5AB7F220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6BACA-1CDA-4721-B46E-16FF813F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33EB8-5FF5-4C6B-833D-659F3180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F52-441E-4AE7-B6FB-DBEEE85B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C50D0-9645-46EA-ADD0-FFE67566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589FA-646F-49D5-9334-59C5DB38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F0D50-F276-4536-8449-0BC70A08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CC9C5-20B0-4F32-9D73-30699961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6A96D-4AAD-48B7-BA60-DE3277B3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8ADC6-B024-4458-B2EB-A98F8DF2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0C0D3-6B16-4789-8CF1-2EA5E1BA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979FF-91C9-4945-9267-B0350B46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BB37C-B676-40AA-8003-F5052A09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CDD84-73A3-496C-9276-D00B9C7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8DB-96F7-4D66-8A9A-5B2900A3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5E395-50F7-45C4-9F4B-A3B8F4F5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553BA-EADC-4F9D-999D-B6BCF086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E4150-E7F2-4FB3-8672-3E6CB667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B5DC9-B390-4B4B-A809-F477ECCB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75F18-AD58-490B-8390-9E821960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C911F-A3F9-4C9F-9F40-548D7AB9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83264-7A60-421E-B155-BC72A571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92976-E8F0-4CAC-8398-7F3AB193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EE4A9-44D7-4A69-9E6C-570A097D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9A70A-DC3F-42BF-BE1F-6A801AB1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A7E-2BE5-48D4-BE6D-402E3C8D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C7FCC-89B3-40C0-A302-9980C24F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4683F-6FFD-4576-9EF4-E38D562B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11532-190D-4D60-AD02-E297F85E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098D1-3F95-4603-A0B4-8786547F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ECF63-8AA9-4342-8BCD-4D6FC95F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5EBE7-0BD9-4140-9ECA-84ED4172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9DD7E-524F-4AC7-A5FA-AAF27ACB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C3935-3D63-4BAE-AC71-06E398F1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060B6-24E4-48EF-B136-B5FF1603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68A67-E6C6-4C05-815D-90ABD2DE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8C13-7F33-4B77-8ECC-A53710C8C24E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1E6C-AEDA-491F-B895-228DE23A4306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0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0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A9CE-FA44-4E56-81DE-46AD5A6EF12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2F9C-3860-46FE-A68E-4D654BD1884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EA3B-2CF3-406B-B823-80D7E454799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C827-1C52-47E8-A423-DA7492C222CF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9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9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0927-B280-41F0-B7D4-D498B310AE4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4913-FAFF-4B71-932E-D37494ED2B2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4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4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DA7A-8A75-48A7-86D1-A07A7D78CFB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E25A-9405-4BE5-93FE-699008CC216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8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8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9890-4740-4E7E-9D68-769FC2AAFFC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3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3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9E6F-51EB-4367-9391-0EC73AE4FBEE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7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7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74DF-BDD4-4013-B4FC-209244ADAEC7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C3AE-3E4E-4FC4-80D4-38FA4F69712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2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2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2BD7-8ED2-428A-93B9-E854716EE7D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B422-34D1-4FE0-81F5-831B9374DAE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6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6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9F36-F90C-482A-8DD1-25FA7A43F6E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51A1-CBC4-4E7C-AA75-3954E33A403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1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1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A02C-756C-463E-904B-B625320AE72B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7600-0B2D-4B78-BE82-9EFB4FA47516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EE78-1C30-4DB7-BCE4-0D953422109E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3BD6-FB1F-450B-942A-DC0D2A40BBB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5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5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B39A-D97F-415A-ABDC-1B5C5363687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A6CC-768F-40DE-BADE-304E75EC969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9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4672-F65F-46EF-B66C-89292B00B36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704F-37D1-46C1-BB86-9BFD7A1D269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3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3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0F33-84FF-4151-88ED-C10A172FCDE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ADF4-FCD8-4D70-B3B0-4F6AD456CA45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8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8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1AC4-140C-4BC4-A3FA-287F39FB7F62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2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2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C545-CEFE-4268-8C1D-EE5F20C51FB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7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7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C845-23AE-459B-844C-758149D112B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71B1-3795-41BF-B107-31BB7E6D16B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1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1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BC9A-DC93-4D5A-8F6C-589B555462FF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BA98-90A7-414F-BCEB-521A8937DF60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6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6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1F2D-0054-47B2-9399-E082BB022C4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F3AF-2143-4CC4-A9C9-6F7CEEC68D7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D475-96B5-43ED-8BD8-00F0F673141E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1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295200" y="1628640"/>
            <a:ext cx="853128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CB2B-EE5B-45D3-9B71-FF29E20C8188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4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398520" y="662040"/>
            <a:ext cx="83106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A6FD-312C-499A-B2D0-05E587FF0548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7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8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6436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A050-F4C7-4FF9-A2A1-FE7422090A7B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0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1" name="Picture 3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709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6B7B-19E7-4D32-8E9D-8E456E076F37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3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4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3D40-3254-4700-B349-1B2E46685658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6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574560" y="765000"/>
            <a:ext cx="79725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CCF5-A418-419D-813B-F28FA33A3907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9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1"/>
          <a:stretch/>
        </p:blipFill>
        <p:spPr>
          <a:xfrm>
            <a:off x="611280" y="1871640"/>
            <a:ext cx="80406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4:55:55Z</dcterms:created>
  <dc:creator>浜田 匡</dc:creator>
  <dc:description/>
  <dc:language>en-US</dc:language>
  <cp:lastModifiedBy>浜田 匡</cp:lastModifiedBy>
  <dcterms:modified xsi:type="dcterms:W3CDTF">2015-02-17T05:49:40Z</dcterms:modified>
  <cp:revision>2</cp:revision>
  <dc:subject/>
  <dc:title>PowerPoint プレゼンテーション</dc:title>
</cp:coreProperties>
</file>