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1F9A-E51D-44BF-BFC1-D793CBCA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31A7-38AD-461D-8438-AFCE3F09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F870B-7EDE-41F4-B4EB-5BE38819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D7A15-A0BB-4E74-A163-6D5CE059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E3A1E-DD58-46E6-906F-371F4682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E2E0E-0F90-424F-A7FE-C3DBFF07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AA1D6-1757-4D3B-8900-3B1AF600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60F26-7A07-4CF8-8E37-A47ABBCD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ADB1F-5668-4D99-BCE4-30ADD8B8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B1035-73FB-42E3-8950-30AE22BD1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B9F1E-1FCD-4757-A4A6-65D8F5A07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1DA0A-4322-4E74-AD48-D3601047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67CA-9C6C-43AA-ACCB-57E068D02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EC64E-B611-4B28-AB62-DB7645F2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EEF532-C903-48C4-9FBA-86887507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A213A-85AC-4056-B377-CAC6281B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3D053-C1B4-476B-B03F-F2C13F09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4979B-1475-4557-8965-74E01B95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5C752-AE8E-44E9-8EB7-A9AB09DB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E4FD5-2B4E-43B1-97E9-E6D09875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9E5A87-EC50-41F7-9AA8-099FA57D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1997C5-BF8C-45F6-B1BA-8F3FA949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74D17-6983-4AF5-B572-EB593BAC3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9A32-370F-40F7-B054-19A74A3B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4F536-DC88-4B35-9F36-9846C04E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FD24C-D470-42C2-BD41-BAAEFCFBF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CFDE2-0A5C-43AA-9BBB-AE1923B8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DA1A2-32C2-47CE-9688-F9F30267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BC218-28A4-49BA-B6F4-28B3FEDA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194F1-E222-4A9E-8219-C4C71C89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DE5AC-B2AB-4086-96DD-4A75AE6C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9186D-531A-4DDF-8D80-40359B0F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353FB-14A5-4C62-8DF4-9B3CE6B3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1CD0F-2FA1-431B-9DB8-C0F2B947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6CA9-DC38-4DB8-85EC-660198C4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B8F6E-2683-4D6D-BB99-8FDACF28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63795-813E-4061-B683-C6E67F05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EA3EF-B613-45AF-B023-09EDFF818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DD40A-69BA-4351-90FD-09050731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A0D532-7846-48D0-8562-32312F1A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AB3DBB-BD36-46EE-A56F-1F2309D8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49C69-FB8F-4B87-B2A1-BC97933D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410C66-A5A1-4CBF-B418-EEB2CA92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DF1DA-5755-491A-BE82-8FEC97CF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95599-D17D-4626-9431-FC309520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60ED-A486-4B79-95A9-41F01166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39F31-6DB0-4C7E-A012-998FF83B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AE2CEE-FD54-42A2-B64A-85E6E2CF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6B4BB0-D294-4811-B819-9C981B32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54D00-3566-4D80-B994-CA69F982A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3FE78-076B-474E-B135-73689A800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C7B9DE-986F-4940-BC45-C0ED0B61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A3E2CF-7EF7-4E3B-BD2A-E4A2168A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01D8A9-6C37-4971-A51F-CB64B82C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57BB39-DE97-48C5-99A7-7CC2C7C8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62A07F-45AC-4FCA-9C59-B8D8A173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F7BD-11FD-4146-AFE4-62A262C9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4F9F38-9CB5-4238-AD11-042D7762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E41578-5D89-46FC-AE64-27DA17E4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ECAE71-B7A1-4EF9-8A9D-133E484D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B16F66-33AD-4CFC-A763-24D8D9F3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F62F25-4742-4B65-998E-A8A119B6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7D1FFB-DABB-49FF-91B9-5F42C55F2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B29F48-4FCA-4CE0-B6D5-55973EC0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05CC6A-B4B8-4361-AD93-D83977A13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747AD0-C083-4F58-990D-9369FADB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D73F9A-FBF9-439D-BD67-F68ED715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B689-3CC0-4495-995C-AEA5D421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EECD6E-514D-4D71-89F0-470BD521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9A6738-0C2F-41CB-B43E-D3DBB478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CD8678-29BC-4E8A-A023-1200E65E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6CD730-F01E-4D25-8818-8AABD823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2B0E16-5C67-45D3-A0CD-329E857F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782350-889C-48EF-9862-229190F3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3BD311-10F6-43BF-ABAE-06F01B5E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C5C766-88F0-4CAA-A96D-4BCAEB3F9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B4A81C-568C-41C1-8982-78C541230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91BB26-3B87-4443-A9F8-F4615F6C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A79B-AEC7-462F-9895-C1CBDF61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F7F9A0-EDED-48D7-931C-24333958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93360B-C12D-448C-9695-5C6086D2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E103BB-0A39-4011-9B30-E20C7050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F53DDE-F78F-4302-BFDF-8C28C643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AE0619-6047-4B7F-83E9-12B4864E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F5C6B9-A1BD-438E-A523-79107061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0F0C7D-2748-4A5D-B47C-E122854D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8FFA59-6C1D-44EF-B348-A42D6D73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97E391-A700-4539-B666-9065C937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C3C251-0AE6-4B83-A9C9-54399BB2E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89FA-F4C8-4D9D-A3AE-3025B451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A51B81-AD87-4E2E-AEF7-5EE655164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5B7087-E151-4E6B-A6D5-42043637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864FF3-A887-4F7C-B9B3-0DEA38FD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7CFC49-06C4-47C2-A4C0-87FB8AA0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E79296-945D-4AAE-94D1-78B1C1FA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5CF9BC-02BE-4261-BFE1-F47B42CC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6CD1B7-527B-4136-9AB6-5CC3D0AA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FBBCD6-EFEA-46A3-AE73-C41C8CEB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9FDF0F-BDEC-454B-94EC-0D9E4BF7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34CADD-46E3-47EA-9ED8-1B6D32DB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924A-E9E5-4FF8-8080-393CC371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BD665E-BDD8-4001-9EDF-F2440821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6423AB-52CF-44A5-805E-3B86969A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5D664C-F1A2-413D-B9B4-D41C5020F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4C20A7-0CC3-41F8-93A8-EB71FD68E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7F0AAF-E16B-488A-ACF5-8AAEBBFB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51D829-8DCA-49B2-802C-0544AF3B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203D42-30CA-4FF6-AF7E-8BF2CF94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BBEB28-7663-4A28-AEFB-D007D509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48B763-B70A-4597-AFEC-D47387CD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732163-170A-471F-9DD5-F0EA8CF1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2E54-4D89-409F-9CA1-142F9A35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3761-FF8A-4896-A141-6E87B0D9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3C8E30-FA52-445D-BC94-3AAF33A2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411903-788C-4828-944D-81999D53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80F463-A5F7-40F4-9CFB-B4853450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696903-7DB1-4771-95D6-D5C66D23F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3E6B3B-AE4C-47B3-AA29-D6975D45A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B3309E-CFFD-422B-B29A-41EA9128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6E6AC9-8D8D-4387-9758-6B72CF0C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DE778C-80B5-46D0-88C0-7821C3E5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0FCA26-BDD4-408B-B1DB-416B28B2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562231-CE03-47B1-8B3C-8603E4F7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BE6F-AD7E-4352-96DC-41CE581E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DEA1BD-0648-4E85-808E-85F44064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170A63-AC5C-4F99-B26E-26419F02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731D1D-86FA-4C8A-94E8-C233C7D2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3501C4-B609-44D1-8E0F-F0D468FE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FD7567-846C-45D9-B778-12FD6A12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3ECCEB-57F7-47AC-B96F-8619E0F4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8D92BE-93B9-42C2-AB0D-BF922F4DF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30C721-E41D-4152-8CBF-76FD3D6D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FC37DF-7687-44BD-9BC3-CFC67C18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190D4E-7098-40A0-B825-F8DCF8F9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A26C-1824-4B98-AF23-E0D293A7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CE5F06-1A38-4A70-87B9-6334F700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C9A258-6706-4F21-8B82-052BB444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BEB481-1E5E-4E10-A256-F54D31EC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069CE5-FE21-490B-AEF9-248CB0A9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F60537-949F-4D30-8FDB-E7AA0A07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5CF60E-55F1-4915-83CA-B2CD968C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35A1E7-C1D9-4ED6-800A-5589B274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EC11B5-F2AE-44EE-AA9A-2161147F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094B1E-D404-4A3A-879C-B120565AA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14F3EC-FA44-4489-B6D5-1B5460C53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F933-8FA5-46B3-8239-9E322E7F8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5D24B4-EFDC-445C-8FBE-A31A7733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329E5E-5BC4-4B73-9678-C9F74569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8834A9-D1B7-4624-9661-05B26F55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2F8DC6-39DA-4E2D-9F42-6B086ABF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2C1DDE-79BB-4CBA-AF76-6A7FA9EE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72E47A-C105-482F-BD5D-F3912B9E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BA124D-572C-4989-820E-83BAA55E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20575A-D021-462D-9782-15E960ED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5C0474-5148-4811-A406-433D8B7E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8641F5-AA4F-4ACA-97CC-969AD5228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DF25-73A0-4DF5-AA0B-AF68E8B9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4DFCE7-BF09-42F3-838F-7777931E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3C723-CCC5-48AD-9C50-B4D7C3BB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5CE9F-2E73-486B-AD8B-5732C4FC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9756F-E298-4855-8ADD-C8B500C3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513B3-B42B-4754-A478-898B6841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26B1E-6FAD-4180-9A1C-F8FAEB2D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B289-1CB0-4012-A21A-DEC30D8E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801FF-F965-4546-AFD7-AF476DA1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A7D01-8D50-4537-A68C-91D6A62B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197F3-D9EC-4B2D-9482-EC1B905B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27C00-A8A4-489E-84DF-C8B10B2D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1E7CB-CC51-4D95-971D-E3BAA5C2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B4BB0-9299-451A-8263-FFE70CF0F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B3EAB-FD63-48B6-A2DD-43AAA185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826E4-C5E7-4CED-A8AB-2E716B2EB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60B82-2C0B-45F4-901E-C443AC74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EE75B-E768-415D-934D-108C6ADF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109A-BE65-47C0-B98D-500748C4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0176A-E904-43F2-8D5A-CDCF089E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CACA9-E159-4D75-AE1C-4B89AF8C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8DE69-EA82-4E94-BBB0-0D07760C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8F5B5-A028-438F-832E-19675651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BA17A-E472-4787-A984-C088AC1C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F495D-2665-44E6-A9B1-E0DB6B9D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7426C-6762-4499-93F7-C02FBDB1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8B4B4-CAC5-45B2-94EF-64905B0F0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2F333-A94F-4312-9450-52A125E34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0810A-F0DD-4FBD-9E6C-09B22EE3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A647-EE88-4143-9AEF-6F1A72D8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CF2A6-99F6-47F9-A9E4-C54EB71C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B82A7-0722-406D-835B-17BEEC0C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A2948-957B-4716-AB3B-D4CEF62D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1DA0E-0375-4DEF-A34E-0827C957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BE50E-0571-4E44-BF51-AE3F1C8B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D66D0-B396-4534-951D-0CD5E809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9C78E-672C-449B-B1B4-CB415141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A9409-CD22-428F-A64A-5455EA68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47293-4419-40EC-81E7-E7A67632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D6AD9-A81C-483B-AC99-E1EC82618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A5F4-2A78-4438-99A9-A1A71F88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8C17B-8E02-4344-B512-3DC3D4D5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A6408-5BB2-4AFA-B388-365553189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69FC0-EA47-457C-B0FE-ED744273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349CB-2449-4AF6-888C-28E0DCEC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EAD06-3B2C-49CD-898C-80E1D4C9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6735B-ADDD-4BFC-9B48-1E2EC50A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D148B-2479-4113-972E-2FD14908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F2915-5210-4062-887A-E4F4A1AC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6D220-EFDB-4A70-AA11-75DFA5AE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836F2-6599-437E-B13A-56765A1A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337A-11ED-45DA-9E17-58A2EACB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21872-E1B3-458B-BF52-1DE4D45D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3F387-4A5E-44CF-B14B-EF42FD04F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A5B52-6F4B-41D5-9E0D-DE35B530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C041A-5B50-4A35-BA24-5886D31B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81F96-7045-4BAC-ABA0-1203FABE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F5010-CA3D-4AC4-8BD2-E3DCCE73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5164A-5175-439C-AA44-7B2471EE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1F98B-BBD1-490A-9F25-941D5E0C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94822-7D98-4AC1-B19D-98E9474D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3C344-5B7E-4256-B264-B73EB8D6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DCE8-2EFF-4CE7-B89B-2F728D05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610C2-9A32-4383-BD5C-9D08D88F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9DA89-6E9C-495D-90AB-336A21E1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12AE6-7BBC-4F16-84AF-C4012ADB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3FFEF-24D5-4746-8268-5EEDD7EAF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9510F-0BBB-4329-AE25-83761ECC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D7C27-2AC3-4AEC-8BF4-825D8528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D0C53-BFC0-4D43-991F-5A1355B9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42C9E-42F7-4F66-9FB9-115B5183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4D302-85F2-4761-A52E-D548BAEB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684B9-561A-48DE-8046-76A7EDF5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3AEF-FE5F-4CAC-BB15-0F3DEE40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38FE0-5781-4F95-968B-F61F712A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D43F4-55D8-476B-BA6C-707EFFF5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D905F-6BE3-45EE-AB75-EA754F8E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608DE-1792-4F37-8047-8AE2F7C5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6FDC9-EDB5-4EDE-98D6-AB08F341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C641E-960B-42DD-88AD-ECD323BE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574EE-0315-4B8B-8C04-E9D60626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FA12F-39B4-4271-AD3F-F3643853C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270CF-6FA4-471B-A2D1-914BBF43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A6067-A769-40F2-A8F1-08170400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C621-B531-4140-8B54-90A2995720A9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8AFE-212C-4B88-A01C-94723D335472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40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40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38C0-D413-42D5-B50D-0F4E6B62F722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35AC-7896-4335-A906-C309BF330985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45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45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4CE2-4502-404A-A873-645CA1979D9F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2D84-5209-4E8B-9280-E8148D7681AD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49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49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A437-840C-468E-A076-E4CD14D5C089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891B-24BC-4EFF-90A7-448AB04203A8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54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54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1B4C-7AAC-4CC8-85A8-B4BD815AC381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237E-EAC2-430A-8B8D-09CE29C30C4C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58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58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0AF5-B2CB-4BC3-95C0-D6F806494A95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63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63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8FE4-1BF4-433D-81E8-E97CE4ABEF15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67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67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6633-7317-43CD-A9B7-D2804057C2DB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F13C-6070-41D3-A97F-3D4EF0955E27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72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72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FABF-4B74-41D9-8E47-7C9B41B5D1E6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F74B-0113-48E7-ACAA-2BC63ECB6E2C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76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76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18E8-07BD-4196-815C-0B5459123951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FF9C-BE2C-4FF0-9158-3CDD566FE8E8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81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81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79C2-042D-4732-A3BE-61449E412F08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2690-7E0A-4123-8375-89C964A5329B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7A0D-529C-4496-851C-0C470CD30A36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C6D0-36D4-4D06-B305-D77D98E37C6D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5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5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85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85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1E25-2CED-4F24-9A01-09FE37BAAB12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2FEB-8C8E-4FEE-98EC-F43E625CB4B3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9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9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C2CA-8F82-451D-ACD5-85DB3DF50C4F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AB5C-7E06-491C-B4E3-F715D24FC458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13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13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C519-4829-493D-9D70-EB05B011EAE1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8251-5DD5-4C92-8B8D-3CCA6152BBEA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18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18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5149-6C1B-4AB8-AB84-AAFAEFFED48E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22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22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F090-C4AD-4B9C-91E1-E5B323845232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27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27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46BF-765D-4519-AF15-8AEA7B1B7BE8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C537-0024-43A7-A72B-09CA39304562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31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31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6EF4-63C4-4E5E-8A2A-5BD9B3BC1C26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918E-E963-4980-BC9A-506020A21E6B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36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36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A468-12B2-4DA4-B9DD-BA955570B25E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F43E-4E9A-49D2-90E8-2956D368D4D9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F3FC-9284-48D6-A6A6-C66C7089B1F7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01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02" name="Picture 2" descr=""/>
          <p:cNvPicPr/>
          <p:nvPr/>
        </p:nvPicPr>
        <p:blipFill>
          <a:blip r:embed="rId1"/>
          <a:stretch/>
        </p:blipFill>
        <p:spPr>
          <a:xfrm>
            <a:off x="533520" y="1285920"/>
            <a:ext cx="806904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1F8C-F1AE-4A4D-B9DE-6EB66A256AB2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04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05" name="Picture 2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8018280" cy="46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DBE9-6ED5-4535-A95D-305001DCC9A3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07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08" name="Picture 2" descr=""/>
          <p:cNvPicPr/>
          <p:nvPr/>
        </p:nvPicPr>
        <p:blipFill>
          <a:blip r:embed="rId1"/>
          <a:stretch/>
        </p:blipFill>
        <p:spPr>
          <a:xfrm>
            <a:off x="452520" y="981000"/>
            <a:ext cx="817236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FBA3-BC66-4C0F-A9F9-35E9140C7E51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10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11" name="Picture 2" descr=""/>
          <p:cNvPicPr/>
          <p:nvPr/>
        </p:nvPicPr>
        <p:blipFill>
          <a:blip r:embed="rId1"/>
          <a:stretch/>
        </p:blipFill>
        <p:spPr>
          <a:xfrm>
            <a:off x="684360" y="428760"/>
            <a:ext cx="7848360" cy="52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FDFC-ADB0-47B4-94B6-4B944DCE6EA0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13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14" name="Picture 2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7991280" cy="53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7T04:55:55Z</dcterms:created>
  <dc:creator>浜田 匡</dc:creator>
  <dc:description/>
  <dc:language>en-US</dc:language>
  <cp:lastModifiedBy>浜田 匡</cp:lastModifiedBy>
  <dcterms:modified xsi:type="dcterms:W3CDTF">2015-02-17T05:51:42Z</dcterms:modified>
  <cp:revision>7</cp:revision>
  <dc:subject/>
  <dc:title>PowerPoint プレゼンテーション</dc:title>
</cp:coreProperties>
</file>