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4EB-A73A-4D3A-B23E-B7CCA2A0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233-65B6-4E4B-AEB8-43FEECA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40354-41EA-459F-A69E-63334A6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91017-4804-4675-965B-C23CCCF5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2F63B-3043-4171-80F2-B6B4EF3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DEDBF-46A4-414D-B7E0-4DBF11A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2B287-885C-4C77-AF5F-0CAE643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2049-0188-4823-B9A6-1608163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64AB6-7B4C-4C98-900C-7AF21981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2447F-5D32-4786-B0FA-525CB5D0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A5A6F-AECD-48AE-9231-F02FCE0E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FD3F5-1CE5-402C-875E-B467C82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39B-91A7-4767-9D27-1B9D2603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5E034-BD37-4411-8A30-60C6095A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C0589-8D34-4ACC-82FB-1DCF7E0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96FB9-E382-4815-A1EB-C169D62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ADBD0-0867-48E0-B783-4A7A6AD9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A4EA3-29F7-4DF8-8D2E-108CD089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E1708-7F0F-4F36-9DFB-01DC0A5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B331-C747-4CE0-951B-82B66725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E18C-5BFE-4758-883A-0374A811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0B672-DF1C-463E-ACFE-DF1555B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5A0B-616D-4F3E-9B4C-350E81DF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E78-EFB2-4976-B49B-A45FBF9E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AF2FB-B1BC-430E-B924-BB348039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85F44-35C0-41F0-91F1-EFB38673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F62B-2D81-43CC-B439-E1725EC4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A76AA-9DDE-4EAE-8E2C-165E8FE2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8B19C-00D4-40B6-B711-069E5B0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03501-AD94-4A9F-A5AF-C516861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C573-5990-4E43-87FF-62F724E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F0FAF-C39C-4FE4-9441-74F7A08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E48E-D2FF-4445-9283-7DA16220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BB430-109E-4077-9FA5-247D3D4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CC31-A818-48D9-9C29-9D16AA68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AA29-77CA-46DA-B803-84F111F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D6EA-1210-445A-9C21-17E8153B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4C99-87FA-4795-B45C-3428AA67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ACC2B-D7DA-4B24-A44B-AA8A79C0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5C59-C14E-4A4D-88AA-BE359C8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BF54D-FA79-40BE-A828-3CDDA3F7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20A01-09E9-419F-966C-69F7A4A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9CCAD-1067-49BF-BC67-58097D7B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CC01-3387-4458-88B0-87A0528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998A6-63E8-4DFD-8DD6-53BCB6A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2393-27AC-450D-AD71-5908F12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82D68-2C14-4FE3-A388-01AA6EA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9034-9194-4B33-9465-FCECABB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EA9A6-8BC1-4B86-B972-123E3A7A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FE39A-E9B1-4419-AAC3-F1A2AA8C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D27EF-24F9-434E-BDAE-24DD62F9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678B7-8921-415B-87F7-B8444453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B67B6-88D4-41D6-BB1C-ED64595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6743E-E7D5-466E-BD07-6F655CEF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EB5F3-C8C9-41C5-941A-54D67D98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94636-8707-49E8-BE17-9AD308D5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0834-B449-4000-B3EC-66F94423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0C04E-FCFD-4A2F-9DA9-4ED0360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9BE98-AE2C-48F0-BCC1-5E72CDA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7509A-0906-44D1-911F-50DFE04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DB663-E115-4E11-84E8-69CFB9C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B71B4-B6EF-415C-ABB6-4306C85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D05AC-48D0-40BE-9AF6-9AE6F960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079D9-16F5-41E3-ACC3-08F9E6A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0ACF8-6C32-4341-8172-4838B6A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E7255-A39C-4A92-A225-0E87EBB2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27495-60F9-48C1-86CB-BFE7D73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947-D823-4347-A115-58C514F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9AA50-35A6-4E1B-B2D4-01076B8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BBE26-33EC-4ADF-87C6-F9DE70A4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1976E-6E21-465C-97BD-5FF75EE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68E04-F5E2-4BE8-841C-9DB97CE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ADEB1-4B00-415F-A39E-51E0F4CA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3C136-725A-49F4-A121-58297A8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13AD9-14C8-4E92-8F8E-D940113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6DCE3-03CE-4E64-846C-053823A5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61832-0263-4A43-85AD-C8B7ADB8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5E978-7C2E-4A34-B28B-8B1A09B9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BFD-9348-4FC7-92A1-2B98CFC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A0675-6530-4B07-AB19-E3B2AAFF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C023B-C465-4DCE-925D-28495903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EDDE7-5996-4222-961F-474E755F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C7B2A-1816-4E8B-A611-3C115F7A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AFE29-690E-4943-8B6F-ED8DE2F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3FE9B-2227-427B-9000-8283FEF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B1CDA-E6F5-42E9-9AFF-B89D481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429F8-5BD2-4A0E-A836-A5E6B5D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9F582-1D13-4455-8EAF-706B076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CBB20-E5D6-4F11-84CF-90C30B99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0D0-6C54-4796-A1BC-4707A85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01C62-8E92-4111-B59E-8091D63E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F7C72-9BB1-40B1-9DAF-12F20574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10E04-F17B-4402-A83D-4840C17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49617-7360-4FC4-860D-C12ACE4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BA49A-ED21-4614-B3E1-11C4CD19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F31F8-840F-4E49-9AE9-A3F3F3F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33917-558A-45F5-BA84-2F3C2070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A4013-D46E-4654-9847-E201A22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3179C-039E-448F-9388-61C8762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D3525-F0D1-434B-AED1-C8A2252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98D5-11B6-4EAF-B55D-875D5ED5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255EE-63D6-4D7D-BC61-592B070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6DE65-9D6F-4A84-9687-F9A0F45F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AA3F8-847C-4530-A78B-5ABF1BAF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014AC-E093-4D0D-9F56-92EEA5A9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7AD7A-D344-4FBC-BB14-FF3CF1E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C4F68-7772-41F0-A54B-FB56D2EA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82990-0DD2-498F-8D65-6426A83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DB610-6332-40C8-B33D-E25E6A88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89E59-2BD1-4E60-9790-AB56226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B1DD5-63EE-4E59-B530-F0ECCEA5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22C-A4A8-4CDD-B3D1-7C0618E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5649-F881-400A-A022-7849BD1B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1C1D9-791A-4E5B-B43A-813BEDE4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0E899-81E7-4FCC-95AD-FD734EE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E6310-4097-4441-9A03-B68BA29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3649C-AF9B-4027-A045-C5A81CA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D7B55-302C-4BAD-B227-8C8F9297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6C924-310E-4F0F-9BD3-AB25D2B3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9E0CA-CE0D-4A7D-AFA1-3BB9622E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D08C7-01BB-452E-AF86-408B43C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79AA4-EF71-40C8-8775-63C8CE7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C2C2F-73B9-45AD-990C-026F7F84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5716-7D19-434C-A0A8-A1C07D4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C6477-7AE8-4C73-8B50-BD39289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60697-03E6-45CB-B869-D25E947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4789A-594E-4321-88AA-6E464DE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341AE-DA6A-408A-A6B6-D252F43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05138-5EF9-4968-92C1-3A2C402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DDD80-B99B-4889-84A0-EA1C68C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759A2-3F79-4807-B629-FD721B60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48A84-6D60-4BDF-9DD2-3CCD4903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7EA3A-5E94-4A7C-A4D3-8FBA310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7A1B4-D7DF-4677-9481-787E9DC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5AB1-C9AB-4A44-9DBB-FF8AB6C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1E68E-FBCB-4FEE-8028-44138BA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7373D-00A6-4AB0-B176-C6080C0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EE78A-FF64-4ED4-918F-6919B78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CE925-3072-42A9-B372-A863A90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A57A8-899E-4883-85D0-0E3C5B0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37EF6-EA34-41A0-8B3A-106B3CA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15351-939B-440B-98D4-C947B25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08CE5-E0D7-40D7-96BD-116FE859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D87FD-E09C-4E9A-9E48-88336AEB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075B8-2AC0-4449-A1ED-FE3857C0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2F9F-3717-45C1-A84B-C5B032F8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30835-E8EC-4528-A285-ACC2221D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C8F54-5591-4B0E-B346-12DE96F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E6BC1-7894-4E70-825C-8F0EC817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8E53B-FD9B-4A1D-BAE1-CFCF2A19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34394-6AC0-4B91-83AD-9E094981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DF1EF-9D8E-4691-BDC6-7CEC3B6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FE5A9-D075-45A4-A291-2942F94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BA88A-6B7C-4873-B8C2-283CD46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253D1-68AB-4358-9F00-F440E6B7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99828-E6B9-4CD9-9686-1362F9BC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503E-0594-4D42-8D36-25546354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DB9C7-7A57-4100-A81E-7CFF51DA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7EDF-89D3-4689-85D4-17E2C436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511B-8F27-4347-88D8-41AB9EE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552D-61C8-4019-96A1-A66E4497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FCF8-2952-4639-81FC-C10A01F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2421-2F7D-4565-ABD9-D53065D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579-53AE-475F-88E6-DB95261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CA52-D74E-47D1-8BC5-5B3E07A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DC9E-F76C-4554-B0E4-F0E18CA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CD20-D573-4035-8945-066B8EF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8ADD-4D73-478D-B1AA-E94BE53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3836-C60D-4120-ABED-2DC7748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0599-EEAE-431A-99AA-BE425BFE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5767-543F-480C-9ADA-2F99D854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A79A-EF64-464F-8C13-3DF02AC8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4727-1C5E-4892-9965-C2D0DDB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DDD7-B7A8-4B92-B8BD-1001999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F87-6919-429E-835B-FEE48A8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2846-3078-407E-B2E2-A6A4612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6AEC6-697B-42F1-A791-3CBCECF5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99D9-BB25-437A-BAD2-4D80A677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05FA-34C0-4259-B1A2-0BBC2DD4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E153-CBBC-43B4-9273-92D8B470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C331-BD7A-4813-85B9-90BF1DE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1E4D-C691-437E-9D55-73406F79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7C51-E827-4D5E-9F6A-3D8E116E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747E-A805-4825-AF29-BC5A3585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A4D8-EFC7-4DD5-9036-CA3AB87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861-50A2-4AF5-A147-41798A43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7673-9386-40DD-8B17-51C23611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9ABC-51F5-4F76-B4E2-EA741C11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2B73-A4FB-4CF4-9B86-00963E76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3F6D-93FD-4FB1-A180-B5EC5A71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5B49-9066-45D2-8046-6FED2F9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5F01-DFB2-40E4-AFE5-CA314C5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E5DE-6920-4B7A-8118-CF953C3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C29E-165B-4B6F-8509-933C336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F5FB-9217-4D3D-817E-D44727C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16A0C-9B9D-41AA-921E-A3B3A773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543-4BBE-4F9F-BD1C-E38D4A4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8537-6A8D-4F37-8804-BBA565AE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5B00-F8C3-4D89-AD56-AD8D535B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FD25-CEF2-4730-AE8C-AE0DA99A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FEA6E-4E27-4A4C-9F15-DF71E66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5F60-CFDD-4388-99D5-1CD46A4B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6F3E-970E-48A0-B946-1BE2332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8905-1A92-47D8-BA6E-45AB33A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5672-58B0-4F76-814D-FBA506A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5610A-938E-4525-A2E0-2178006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D011-1522-4688-A4F2-CD925435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EDA-B500-4BFA-8CA3-7981D20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5746-FEC7-4BBD-992A-1C16B2F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651B-C608-4ACA-8B36-CA7A9533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9780-CA16-43F7-BFF6-CB1362F8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C791-5DB2-4E5C-B2D2-28CA2C5F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8F7C-2A68-4C89-A023-6298FCB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CABF-6E6F-4239-9A37-3A112C7F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D27A-E54A-41F5-9E5D-A81D9484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709B-B08D-40F3-BF9D-DAE0D3E8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8F43-5A97-4962-B847-7EC7E42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EE59-F95F-4352-9919-F072263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FDA-D711-456E-8F85-4F2FEF9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2484-840D-4304-B7BE-76068E2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A264-613C-4A57-B921-4F20AB8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9ED2-A080-478A-ADA8-169B957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8558-1FDF-44F7-85A5-7F8EB0C6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FC85-A728-42F2-8A99-C6C3B8F6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74D2-C9B6-43ED-9C65-4FC242AC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A597-F407-475A-97B0-E71F6C5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8634-71C6-4D7E-9B5E-15BC419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342B-DBEF-4FD2-BA97-FF00688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B393-B8DB-4B9C-870E-A37B61A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419-E807-46FF-8F6A-CF1897F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E797-3ED2-4CF6-BC2E-32FB8A8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35645-8A0D-4252-B75F-D9B92592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CF7C-AFFE-4EF6-A968-76FA13A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0672-5A53-454C-8147-F78E375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6EC0-A93B-472F-828A-877ED8C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1F63-5620-422E-AD1B-34A6414D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93CDF-6F78-48EB-B4D8-1911002E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2A78A-132D-4B17-A411-A50C28C0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50F37-2620-4527-9629-3D377A6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7557-3263-4EEA-A75D-4D95140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FBD9-696B-49F8-BC8B-10D2BA7B6D8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3D6-D737-49B6-BEE2-D7979B817AA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D94-18B8-48BB-B736-C9BB6D4DD29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1F6E-A9D9-40BD-956E-A52590A5234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91B-4E92-4FBE-BED7-499B15C893E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3DF-D831-4D9C-8390-2E9F627BC1F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187-5507-4FA0-9E38-2A031AF5239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CC4-8C48-4DA7-953E-E0C81F8FE73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CF2B-D47B-4120-8E11-CD496E20B06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3864-CE9E-46A9-8ED8-731834EBC07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BCC-E9AD-4977-981C-FED861EAB0F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2EB-0A6F-4C1C-A111-64141FE0233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C3CD-4844-48D4-AEF3-9F69C3A0BD9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17D-83F6-4851-906B-AF83FBE8BA8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AAA-598C-47C6-BFA4-95B656723BE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E88-612E-4923-A177-ED7AA4CCB8D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F273-0F1D-4D24-A0EC-08A47DB4E48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B50-8079-42AD-AE35-4C51CABBA9F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1B07-AEF1-45B1-B289-56A4001D630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4FE-B764-4550-A9C0-7A6B8DEBD08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8CD5-1282-40C5-BAFB-17C217407FC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FA6A-6F47-46F6-A127-9AB74347ACD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DA7A-FDF0-46AD-88FD-7E35FEC1F81A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E196-91FE-472F-9D2A-D9317C3A364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E47-2530-46EA-B3F2-8E679510DB6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4761-0AE7-4AD5-A140-8221D9819F0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1A3-C0AD-4265-BC90-B3A7FED08EB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250-BA78-42C0-B62B-A1C3068643C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C46-EB30-4672-A3EE-DF8F6B0FBFA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EA8-BC20-449D-8C36-6ACFC28B618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94B-CC94-49EB-B1B6-3D93ED9CF59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EF5-4EAD-4CC4-BC00-DCEA0091E86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3E0-BAF9-4AB4-9ECA-A799DBE50F2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3BF-0ED8-4A6F-9EC3-C9C37750AB2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5B80-818C-4AD2-A6AA-6C4E42961A4A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1417-19C8-49C4-A216-B764E9E1E5D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C03-9BA0-46DF-A362-F9A953859F22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39640" y="743040"/>
            <a:ext cx="813924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FDA-8A52-4B5F-B37C-DBA272050510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468360" y="993600"/>
            <a:ext cx="83516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B554-7668-4AAF-8C44-16E5CDC31183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45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38BE-A0EB-44FD-B07F-28642ECDAFF6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395280" y="584280"/>
            <a:ext cx="81392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922-1716-40E4-AADB-0CFEB77CB9DE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94DF-78C4-4890-8072-557B37BE9EE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6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835280" y="507960"/>
            <a:ext cx="51609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0:58Z</dcterms:modified>
  <cp:revision>5</cp:revision>
  <dc:subject/>
  <dc:title>PowerPoint プレゼンテーション</dc:title>
</cp:coreProperties>
</file>