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BF88-822D-425C-B1B9-CB7F87FD8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048D-B579-4968-9B83-B39FAC37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F497B-4D3E-4C0B-BC9E-7CC2CA5E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5C4C9-B2A1-4CF0-864C-CF390709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ACC9E-51C2-4767-A58F-259CF4FE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64551-E3E6-4C90-9FC4-A7C5D588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BFB0D-32E5-4665-BE3C-CB83D6AD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AD615-FCD3-4D8B-8A56-475907EE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07B82-CF87-4624-A45C-FEEAB719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BFABD-8CC7-4C97-92DB-E1180415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14765-B4A7-4CBA-91FA-F8E681826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21D56-983C-4BB6-8170-6A8E6E759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4939-39B7-4DCC-BD51-8759BCAD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49128-6476-4E10-B11B-F78247A0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C96FA-2E21-4C4B-BDEF-E691A616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A9E087-A870-4908-8424-E8083DA1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29A59-6209-4624-ACA9-B98DF1F5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1753F-0F43-47CF-A90D-17F7B199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12C53-896F-40FB-AB4F-BC26FF37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AFB3B-6080-4611-9424-56AB7877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00EC0-9101-441E-9844-BA997DF7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E232B-273B-4826-B8D7-3C278F4D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B5768-F460-4488-98AB-CA187E96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DD2C-0993-4706-962C-A2CC04BB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A4E53-0C79-41EF-8FB6-10C5B459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C9CBE-3B28-4076-94BA-5BA6AF58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58AA2-CBBD-4D35-B9CE-7EE66679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A69F6-83B3-4E25-8E11-B2E98983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E2C00-A633-4C99-A63B-76EB5F27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FB4E3-31CF-4D44-9C3C-E22BF61B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11D98-C6EC-4578-B246-1B5A05FA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043B2-CBF7-4910-A4FB-3C17BEBD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E3CEA-0AE1-4CBE-8611-79F96070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ADE1D-9565-4938-97E2-96A8F1DD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39DD-BA17-41B5-B6EF-45037AEBA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5E5FE-B8B9-4E94-A017-F7D38646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29997-B6A1-4BFF-BA80-540550CD1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1E3E2-8AFC-470C-BBE6-603248B46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1D527-BE33-414E-9877-4128E56B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BD271B-6097-4C1B-A8B7-8A0F2FEB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8C236E-E3A8-48DF-BC53-7D4175BC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3FEC21-58AE-40DC-88F3-F3749389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8EF52-BE02-4A6C-910C-85A98F9F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E6806-93B2-45E4-A495-BD86E77A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A1B4FD-DF65-4F3F-8FA4-37D3B033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8561-50CB-40F1-AC64-576713F7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7980FB-C963-4837-891A-8876D9CA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6DD6FC-8F03-45C3-886B-72241B04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C56DBA-503F-4B65-BA3E-C92517C5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A0280-78D0-4DA4-AB5D-6D4A23464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4C9E0F-52CF-4362-8F24-A3E0AA40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861807-989A-48BD-BD2A-0C3FCF1D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2744DA-599B-4EAA-9AC2-B61A0039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D23325-AE87-4C1C-A853-2A180D34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137B46-0C89-4E8E-A43A-B456E96A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3244C7-2DF4-4757-9358-414BED80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9D6D-425B-4C96-B0D4-B7C84837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9289CA-B655-41DD-8282-DB7EB9F9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04382D-9E81-41A5-83FE-C1B4D338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71EECF-FDD4-4C84-A813-03E0ACEA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5A3AC9-4311-4117-980D-6A2F7941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3290DC-7DB6-4E42-89B4-302E9B4D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B3576C-006E-49FA-B7BA-4207852D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599099-0CE5-410B-A878-20FCADD27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C1EF1C-30BE-4F5D-B8D9-D5AD8BF8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C97409-4EEE-42D1-8860-E7DFD817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261B12-2CBA-4B84-9576-D9955607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269E-F553-4337-84EA-DE9F62D0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CD3F89-5CCB-4C4C-90F5-55D04420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55108D-60F3-4CF7-9E18-73B5E2F4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C9E03C-0DEE-41DA-AEA0-DC69B8EC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82B1DE-1DEC-48EE-AA25-159CDBFC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D540EA-5C49-4C5C-880E-19953460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4BC8E1-0B35-4A60-8578-8D91371B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C2CE93-365F-4E9A-9376-562BF914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1CCECE-9372-49B6-BF8E-5F780424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B27E70-287B-46DD-A645-7992D02E8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69FC99-2ECC-415E-A9CC-3E90012E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D893-DBAE-432E-85A1-D5E13BAE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E68BE1-F4EF-4F7A-9BC0-72DC0565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2C747E-F3A4-4C13-ADB0-B3483854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79FF65-25FC-4E1F-9B49-6120EF02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EA75DB-84F8-4710-A3CA-C3FA5395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3F02C7-8A56-4645-8A5F-1E3D5285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2FD7A4-2B99-4415-8C1E-E2C51FD2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1E8C66-DB53-4F93-9E5C-4A773103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4D32FA-D5E5-4AF9-B9F7-02CE757E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59EB50-8C4F-4471-9502-C69B204E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42A635-120E-4E92-A52C-92D204028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E0E5-E8FA-420C-9503-BFBDD709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2FFFB5-EFB4-4B4D-A599-592B3D97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7F908C-31B3-41F0-A133-5306104C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4D96D2-8D7B-4B94-A7F6-BE962ECA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B86631-1C86-419C-8018-53ABD9CB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260ABD-BB77-4296-92AE-5BD28C14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C60451-EE36-4FE6-B26A-9B361145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DA65FD-C0A5-4B9B-8D28-97D1CADD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776622-AB45-440A-BF53-D71EB8E2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AB9B59-B4BD-41B1-96CD-B9C2DD48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99A484-42F2-453B-8BED-AFE15DE7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468B-6807-429E-A50F-D0DD2A35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85BC61-03D9-4553-A2D4-9B837F12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00A60E-57D6-4542-AF4D-BD47F7DF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4566C8-E4CB-4FF7-8D07-670E1534C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C81E1D-963C-49D8-A9E9-31218EC7C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1A84AF-345E-4FA8-B9CB-29B639B4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24B276-56D6-4484-BAE8-E0F22361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E4BE2C-51F0-48EF-8CBD-295213FD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66F42C-2D4A-4D6F-8958-49C45EF9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E7ED25-0EC4-428E-922D-D5FB31F8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464D81-BD5E-4C0C-B59F-946BFDFF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A126-B8C3-4709-ABD9-AF8BFF8C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C519-FEEC-4B74-8B9F-BE8D3622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B7994A-0360-4A44-8AEF-AD5BBB0F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744300-8170-4681-8576-8F117F85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A62EDD-C61A-4CA3-A5EC-496BA1C5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AE911D-1F48-4A42-A7D1-945C3D47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91E101-E67F-4ADC-A19C-A47F358C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FA63F3-0266-4012-92B0-154F26D3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20EB50-10DC-40AB-B766-696D97EE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454BBF-BABE-4B88-AD0E-9DF85640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A3CDD5-4EFD-4477-BFF4-F51A867B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AC1551-E395-43EB-A0D2-702124CF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AFDB-E928-4E79-BF8C-742C1D7B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8FC155-34DD-4CAD-A253-EF95191A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21C822-3F29-4BF4-B935-1671BE40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8AB18F-9CE6-4C58-BB0A-109C2F88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22CDE3-6E83-4F4B-9E7E-4F91BB56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65CAA2-74C7-416A-AEDB-6565F616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F87415-8683-4B74-87C4-093B64F10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85B395-AF9B-483C-A2C3-1265D2A3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4133D5-0C7A-48AC-8639-C4DBA802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12A49C-EF00-4E43-BE5E-45BB0178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DEC51C-9912-494F-A15F-9ABA9935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24C5-A5D4-46E1-81EE-4D1E15F0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5D1D78-6708-40B5-B889-F4D4A8C7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66F7E3-AAD5-42A3-A3D4-37B8A05F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DC683F-6C5F-421B-B0B7-EC9171F2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D0CB3D-9E93-4765-B707-12E4A900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FB33C2-C43F-4AFD-A263-262179A5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80C764-4F86-4B64-A836-C070B747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26C10F-86A5-421D-8A51-66F75D70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E3E03E-5B3D-4A07-A286-26B7FC5AB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E31F23-2BF3-4C29-84A3-F1E5D9E4B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8F3DD9-50E4-4E07-B624-08F545A2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E508-175F-48BB-B9A6-3F124DC7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A4224F-07FD-40FC-B773-7159A93A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F083ED-B505-430C-82B9-C4A64AEA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CCE36F-332A-4941-BF66-5B8121E4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FB9A4C-6E62-48BF-AEF1-F0EDA204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D7A86C-1BCB-4B1E-B7B9-61FC7613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855873-1DB6-4CD0-9F8B-B4915C10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5910B2-A0DB-4499-9D02-F7678373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351CB7-EC4F-4515-867F-6FD70D65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F6CF21-E403-4372-9562-A474976B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0395FF-61C4-4938-BBFE-23EACBB0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AEDD-922A-4DEA-BDA5-DD801BC12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9BB346-0645-41FD-A60B-7DC8B3F3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277D6-93E2-44CA-8F11-FAB822FB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1DD43-CFF5-4B71-9FCF-BB1DCD63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6DC5E-7AA6-49B7-B2B6-B5F374AB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47B6A-DD94-4461-B4A4-ABBBCFE1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C9584-3CFB-4FC7-BFF3-355733D3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23EC-ECA9-4382-95EF-5545794E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10309-BB0C-43D5-82A5-263123DE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87411-ED01-41FA-91A2-2882BB75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7B830-8768-4726-BE84-FD0F5B56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3E1C9-5F27-4DF7-B82B-BB775C73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14AB1-5C01-4D19-B3FE-15FE40B5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70B1B-3E38-4149-A775-5769B7905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5D413-F700-4FF4-9203-E32F2F6F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D1931-CD92-44CD-8BF4-17F4C836E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89B0A-2CF7-424A-85D6-4837CAA6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6C320-5538-4645-B773-C44285A2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899B-F7A4-4D39-985C-E33B0A71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AC7CE-BCB8-4F09-A08F-F90FE143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1678A-DC9C-44CB-9AD6-21DC0FBD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704C6-4AE5-4DAD-BA5B-E82C0E80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A8C0D-8039-4DA5-B3CA-A268F76E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3007B-E997-4868-860E-B2B42706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FC373-01D7-440A-BAA7-292D0805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177DD-5EA6-47B7-AD65-0778BC40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2F871-FB73-4846-B724-D967CFCF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ABE68-0BC7-4634-AC40-C759368AA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1375E-C577-47D5-B76A-8E19FC261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8C88-B4C2-4253-A959-91AA274B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712EF-FD4F-407D-8C0E-B79F1344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E2BCF-299E-4E10-BA5D-8BFC1361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78777-B4AC-4B79-880A-E8684DA3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A25E5-9551-486D-8421-566C3E3C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9A1C6-B555-420F-9AA5-7E8D7B40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ED5B5-00F1-49B4-B9C5-F3C12384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9BD17-3D4E-4212-9E03-DA2AED13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D6553-7598-4B28-B9AF-9723892F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6AD60-CC69-4D40-A6D7-8B33559E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662CB-F49B-4C1F-A31F-4593E0F0F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2911-0E9B-4DF7-BE1D-112FEC34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2FC48-A2E3-4F00-BE6B-C7BA3B498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D846C-6BEC-4424-97A3-3C659553A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87683-06C3-4135-9668-17F857AE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838DA-5743-41D4-85CC-34ECF886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12641-E3FE-421B-B577-50FEF54F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42BE6-E86C-489C-A46A-CC549274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29386-4EB3-419C-93DA-B2AC49AE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9FB13-ADB9-45F6-91E9-4A3B169F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32150-6794-45C6-9532-DA834F82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A53F6-ED95-40EE-A30E-96A5517F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7C2A-EFEA-4AC6-84DE-B4F68BA2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444D8-9A08-481B-8B2B-FD7CEB8B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BA363-4AAC-4C80-91F3-92D68A38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D025D-9C34-4730-B6AE-7E783CA8B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4EF61-5309-4DEA-BFC1-3702A516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DDC17-B1FD-4852-B7A3-AE14C12C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361CB-8E8F-4534-8A14-8E4768B5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F6750-894A-448D-A56E-1C949B7C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1B59C-676D-4B13-91E0-73BDF87A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4F18D-5EF2-40FA-B518-8B3F0E11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BC23E-CB3A-4837-B0D9-043D59BE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384E-0381-4CCA-BC44-A093CFC3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59361-3378-463A-9A47-6681ADE8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9F7C8-45B9-491C-BBBA-30787B97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89E6B-E9F6-4FD4-B256-65AA888B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49204-90AB-4A2E-B407-A17C85E0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38EFA-D2F4-48A0-8D5A-0E8339BE7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F218C-E24D-47BF-8056-D23E594F9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124E5-4D9E-4FA1-B588-E525820F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6944F-1FF2-4F76-B5C2-E94FDC40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4A146-7B4B-424E-B994-645C01A6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A2005-CCD4-4606-9A19-265801EC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800E-8870-4C43-823D-F0236F9C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E60EF-A4DA-45F4-B50F-21AFC29A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3ECAD-A250-4B07-9293-29347BFA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51960-BDA3-42BF-A180-29F2E0CC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142C3-AB46-44F9-AE92-E591AE18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332E1-4703-4162-9DC6-A61BF456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1DDAA-DFA7-4CC9-8A12-8B74FD07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2DEC8-495E-4EBF-B412-B3C1DC9EB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D4457-6B20-40C6-905A-0F76CA1B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94AB3-BC91-4C0D-9C06-A05FF5F2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DB42E-E96D-452F-8C32-B8A5DE86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9976-EE6E-4B03-9C28-E6C560CD309B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90AD-5369-4B99-9E52-BE8035CAABE0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40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40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0912-8A7B-41E1-B237-7F374C556E9D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DCBA-E9E0-40B2-8EA1-036906868E2B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45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45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B9E8-7D8D-426D-AD26-13CDF5B06505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8CA0-A5F3-4987-9223-3D5DCDEB0117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49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49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050E-1893-46EA-A97F-BA85963B8A18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94C0-B192-4903-9FB6-1CACCD74684D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54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54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74C1-1057-4544-AF34-4D1189A930C3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E038-3BE0-4F77-8A1A-AA815CFF7D0A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58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58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4AF8-FCD6-4645-B267-7F0F7F2CED29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63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63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FCA3-AC3D-4763-9BC0-0911F8B95BCB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67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67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BDFE-683E-495D-ACB3-0159B821A402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FE92-C3E2-4B77-BA06-91E787B27F8F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72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72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5E13-FDB6-418C-A03C-6CCBFC1781EF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17CA-9761-4276-BCBB-B24185FBC604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76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76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A03B-2B8E-499E-9A07-BFC9AB573F50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B7EA-E14F-4FB2-BAC1-C1DF81A2CB93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81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81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CEA1-093C-42CD-8B2A-D4723A21298B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ECCB-E613-4CAB-99F3-A87E285B5FE4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C8E8-09DE-4C3F-A5CB-441986C2B98D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A82F-E345-421A-AA75-6A6316E7E56C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5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5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85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85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A2A2-8CAC-4C56-8FBD-91EA3EABFC56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8303-EB75-41A1-BFC1-3CE0422A4383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9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9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805E-D5DF-46F5-A2D6-F54FB2AF43B4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30FD-A1F9-4180-B43E-739099831697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13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13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A273-230D-482F-B321-DB2B12180A52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4801-58CF-4F78-AC6B-E8E0CFE4B3F3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18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18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7562-FC36-4089-A2BB-40FA11079A68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22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22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3FF1-5637-4447-8220-D17111D1BE69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27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27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B7EA-7B65-48EF-A0F1-AD0ADC30825E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613D-798B-401A-ACD6-9607ABC8CAC4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31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31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C2B3-3811-40B0-B620-D840BAF0D726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0B3A-91D0-45A5-86A5-7DE0371C3B71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36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36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336D-6A7D-45E3-A849-58211D7E814D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8A7A-8B61-4CAF-87B8-DA68C794A79F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7E0B-495E-4FC5-9A26-1B919A21E4D4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01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02" name="Picture 2" descr=""/>
          <p:cNvPicPr/>
          <p:nvPr/>
        </p:nvPicPr>
        <p:blipFill>
          <a:blip r:embed="rId1"/>
          <a:stretch/>
        </p:blipFill>
        <p:spPr>
          <a:xfrm>
            <a:off x="507960" y="549360"/>
            <a:ext cx="809640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EFC9-BCDD-4192-8362-ACCE71C17A60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04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05" name="Picture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20728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0AF9-F8A1-476B-82DD-F3B58724442C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07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08" name="Picture 3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74469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7T04:55:55Z</dcterms:created>
  <dc:creator>浜田 匡</dc:creator>
  <dc:description/>
  <dc:language>en-US</dc:language>
  <cp:lastModifiedBy>浜田 匡</cp:lastModifiedBy>
  <dcterms:modified xsi:type="dcterms:W3CDTF">2015-02-17T05:50:06Z</dcterms:modified>
  <cp:revision>3</cp:revision>
  <dc:subject/>
  <dc:title>PowerPoint プレゼンテーション</dc:title>
</cp:coreProperties>
</file>