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36D-748A-4819-B990-5BE3CC44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4C8-1F14-4F4E-B692-0173E979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58AFD-094A-4407-B1DC-B31512E4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D83EE-712F-4106-85FC-880B3DE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BC409-1D28-4785-9B5D-5C485071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471FF-A5F5-4769-A80C-ABB5797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556CF-B9F9-4FA0-914E-571BC84C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5AA57-772F-452D-8193-B27E1CE1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1E7CE-CECB-461C-AC78-FFCF6499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B27D9-A406-4F7F-B8F2-A75AE8AD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4CD3A-6B90-45E5-9892-CD61CB43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DBC0F-F13E-44BA-896A-4D5D704F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D4F-15B5-4529-BC05-FF4EFE0F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4074F-AB5B-4C44-9987-613CBAFE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D1F75-2FCE-4F4D-AE93-FC6123F4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9BD6E-EC3A-4B82-9FF3-321476B4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E50E1-8A61-499E-BE77-FC100B71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B057C-B506-4C24-8304-5E5C5518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01FB1-ADE4-4587-BCEB-6E9C70B6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06102-2D06-4764-8D34-725A37A4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DED77-E73B-4A55-AD2B-5469FE5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54F00-BF9B-471D-B0F5-82E2E2FE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1CA7B-8480-44F6-BCA8-F641F8A4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0D8-932A-44FD-B80E-75E96013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7E6D9-2EFC-4849-A7F1-F098FA34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C28A3-2D98-4C2E-957B-EF465317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6482F-85A8-43EF-9CCA-E6CE90A5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0BFCA-37DA-46FE-9710-1F0F1DD1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8AC31-6A15-40F4-ADA1-3163DB72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FAEFE-964F-44E7-A1D6-B4A237AE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BE6EE-A729-46AF-A583-07AF43D3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AD22B-64B3-468A-BFFE-30A7183D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F4716-AEFE-48C5-A464-9819B67D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65FD5-3E6C-4731-81AC-9EA4A9E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31FA-A44F-43A5-B067-DA9FA02D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14F95-44BC-4456-AA15-622815F1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70335-B53B-4794-A973-4F0AEFCD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A69F3-2A95-470B-A64E-477F9E27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B8367-F67D-4B14-B93E-1365ADB0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6D174-EF07-4A08-9146-03FE6BF1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B246D-45A3-4E32-8EA9-4021D2C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9680C-CC49-417C-BC07-EC1D209B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4ADC7-7883-4C40-B71D-737F2DBE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BBA9F-6C57-457A-A3AF-BAE9C823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AF07F-DB04-4248-BA5A-C7608683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CA99-69B9-42EC-BA67-B0513A0D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24F55-372C-4AD2-B7F6-B9002AE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BF2D1-F754-48A0-8D2F-E6B6C502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BD331-5AE0-4A2F-928B-D6634E7C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27E50-A41E-4F5A-BEE8-63C8A0EB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C9E83-DE5D-4C08-A69D-108381EE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DCC34-BCFF-47FF-BD53-91F481F0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D1DF2-5EB2-4F29-9541-9F801074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E3A1D-81DA-41F3-8C9E-63BBEE6B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B44A9-A077-47BB-B3E0-EBBBE076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68E7D-4918-4158-B890-D0646032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C82A-CE8F-492B-9D2A-7DFB31DE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8453E-90CB-43C9-AECC-48869EDE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036BC-6137-4F59-BE86-48546178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FFD8F-F26D-4D58-845E-B1E024BD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3896B-D7BC-4FDA-A39F-22E1664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4600D-101E-4423-8A1B-87DC0DDB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B80EA-2A81-4C4F-A415-21831595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F2AA2-B6C3-4563-85A3-1EB9E209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43760-C21B-493A-9F8C-D24500BF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C031B-8BF6-40A5-BBFF-317064F6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72988-8399-4CA3-9058-8AC6BBAB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DC1E-7163-4374-9D62-A13507A0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A0197-CD83-44F9-9339-E5B9F81D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3B3E2-5FE3-4AA2-9B9D-DEC50A16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06DE0-8A8F-4601-8120-365AA928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9B0EF-AF40-47FF-8808-AC4484DB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4EB8A-80A3-40C2-8A08-CDDA9BB5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341F1-FCE0-4C0F-80FA-7536A0F5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3D653-D36C-4D8E-A9C7-21D4E3F3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B5EFE-4B0E-4D4F-AD95-ADF49A74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B55C9-EEF6-44B2-AF61-2431A5BE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D52E9-7182-45A3-850B-51D64B7A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B22A-07AF-4D69-8A6C-F45E91FF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11061-4E37-4B23-86DF-8253CD92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A113B-64F4-46C6-8EC3-961C6AF1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D065A-D5EF-465A-A3AE-625247D6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CA58C-2FB1-4E2C-9E25-B1A06EA7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F0E6F-CE33-40C3-ADA6-188236CC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A4E5ED-1C26-478B-A5D8-B8D8D50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838EE-4F70-45BD-9D9D-44D6C083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121F3-1CFA-4727-8C89-E61D93E0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A1009B-8B46-4651-B150-CE0833F5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1552E-318C-428F-9CC4-6DF6D20C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A940-C68C-42B1-8719-83FDFA0B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D251E-DC54-4E49-BCEA-05BCB2C6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13EB6-D946-46A0-8994-6910917C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CB1EF-F27B-4F00-94D5-62BA5CCA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EC9BF-C056-436D-BCEB-0556E35E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8941E-7A88-43DF-B92B-A15C3D05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E033E-D855-4C22-807E-AAB87808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5BF22-39EB-471C-8FC3-07E69629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936D5-29E8-4FE8-B2E5-02AD2E7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7F10E-19C6-418D-B4BC-25289C6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C8CC1-C41A-4A8B-9CE2-0B8FA1FD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E5D7-BBD2-42A9-A8A0-F2D7B099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081C1E-6E6E-4B8B-83D1-EA6BF530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73825-FE02-4FAE-8D02-C113793E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554D8-0E3F-458C-9074-FB1A4850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14FF7-0E13-4BE5-8B99-8AC6DB1F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858D9-09B2-4DB1-88E3-C64F2F7B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ECD50-DFBB-4462-B95A-58B740D6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3555A-F986-4B8E-B149-0ECCE928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ADBE3-E2E4-4AF5-8CA4-CDEDCF72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6987B-E7A0-4D29-9992-DC2B4A59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B6D44-997A-4F5A-B33F-4922E8DE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2B7-982B-41B1-96C7-F1BADD4F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579B-FF03-4BE9-941F-6C1ED70A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E2B07-6796-4DBD-9D7E-BCB96D0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40A6F7-A1DD-4267-9254-9C7393B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DBC52-1E20-4BF1-ADCD-353B88EC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F328F-8BF8-492A-A01B-31E0B259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6F0E9-CE8E-47CD-9ADF-8A842AD5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724EA-8658-47A1-8DBD-BA79DF6C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2F0B10-D28F-4450-9C3B-86CD25CD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6B02F-A533-4558-B1E6-30993D56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697E5-3CCD-4AE7-82B4-176C3477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B57303-2424-4B7F-92AC-DA65D70A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39AB-E19C-478F-83F3-47B62502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FF85D2-EEC6-41C9-95B3-4FCFC9B3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33F60-7C91-4882-AA44-9E2A27D7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58B8D-BA71-4E22-B581-55297181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9175A6-61F9-4500-AC0D-D315BA7E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F5B790-2110-4C75-99BE-FD16E302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730ECE-40E2-4A8D-96BA-AB91088A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419FE-823C-42D0-A417-4F78E9DA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EBC62-5603-4640-85E2-493A01B9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BF793-5015-4EC7-A015-7B1737A8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A7C3F-883D-495F-887F-437CFFB6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05DF-6AB8-4286-932A-F8B938C0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23D8E9-0492-4B1F-A95A-98879890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8A330-E809-4B12-94AF-890F56EF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4A061-B300-4207-A241-0FE7AD96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5B06C-0C59-4C48-B349-2D0EB1B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BAE9E-267D-4A14-8617-5AAEAA4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89EB9-4413-49A3-AAED-0440C89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EEF667-B9A7-4485-8C4D-E540DC42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6E59CE-8354-45D7-954E-818BB757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E443F-6181-483C-94CE-ECAD3D16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E9A83-83CB-4680-AF85-4C3974C0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5D16-5F6D-4FE3-A753-B46F7DF6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06493-4075-4F20-91D6-0D30D423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622C5-3BF0-43EB-9309-229FD89E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8FF148-E275-41AE-BFF9-12916C9D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042209-9ABF-495B-A4FB-3A5FBDE2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4BE53A-A1D4-4398-9E8E-73F31568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EE345-4E52-4F08-8E0A-3AF73AA9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65D7C-95F2-441D-B983-343CC3B4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7467A-50E4-4BA8-ADAA-7817A140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8AAFB6-0679-4FD1-8B77-9241508D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A3BC9-DC8D-4DF2-AE09-86B79B75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17E5-2458-4544-A6EF-92B85507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918678-159E-467B-B920-FE27424E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2C83-78F2-475F-8387-919058C1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7AF1-A3C1-4517-8B7A-B0FE5F39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B1A7-6494-428F-AAC0-6A78D0F0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78F61-91E7-40D5-9190-C4BB2182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880F-BCBA-4520-BAE4-D04473F1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CA4-A352-4B0F-9DDF-B51AC649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EECE-BB3E-4E4B-948E-BF74697C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E9850-3ED3-4D8E-A9ED-7DE2A9D9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BE6C-4F94-490E-A74B-B0E94697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E58F-A5BD-4A0C-B5D3-415518EC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F32A-4C48-4D3D-A546-AF957A4D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B513-377A-4D49-9ED2-C4C2D360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0ED3-E703-45B9-9510-9D9365A8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7F447-C4EC-42B0-AF5A-53056D96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FAF0-0B24-472A-BF6D-5F6E3560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F305C-C520-4A29-ABBF-B697AD87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EBA-5891-44AB-8C12-F05A7F01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5E45-619B-4911-8C72-284A0975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3E21B-DEE2-407B-8922-066C7F43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0EE98-4469-4DB3-ADDA-8B5CB67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9A7A-4B85-4EB4-A7B9-D457BFC9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EF04-7D29-450B-8B0E-E521E5CD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7AB5-6650-438E-BBFF-CA2E1AE9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04EF-DBD5-453B-99BF-50EE56CA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92D6-E2F8-4C9A-B1FC-DC038B6D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4115E-824F-4D44-9FAE-D9FF67E3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26349-3906-42FD-9C75-670B8458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EA3-5CD9-47A8-AC90-56E7D798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70A27-9A2C-4038-877F-7D290388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68303-201B-4411-AB22-4C21836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9DFEA-E3E2-47CD-A3B0-8979A87D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2B32-56B1-4195-8C60-A59A5D90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38285-013F-4FA9-A0D1-1BE3AA0B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87766-43CD-422A-8C88-55836B2F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24D52-3220-40C2-A760-80EAFA6D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F378A-4FA4-4920-8791-A0C11D3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69D7E-D3B5-47E8-837F-19BF84A3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772E7-C740-4A31-959B-A8DB7B77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F8E-14C9-4C3A-B408-A204A0E1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5A17-B110-46C3-BCD8-26A71A77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64AEA-098A-4E1C-A5A2-CDB9685E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D7A70-E299-485D-9934-9D113C1D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617C2-2343-4758-86FE-F332D10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82661-39EB-49BF-8DD5-23ACA38F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5E7EB-342F-48FD-B2C1-4D8940D0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68100-A723-4090-9106-21175BF0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12CF6-5D37-4D31-AF1D-7119B534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45B9C-63CA-41D3-983E-B0DBD0A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8CE80-2E63-4B1A-82CF-D7DC95F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D24-5C17-4118-8DAD-C0600D0D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32C7B-BC06-4D81-AA90-E1615866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CFB7-B983-4E2A-ADC6-1865CD30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10433-D8CF-4547-A7B1-B0A41AC4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BE6AE-21CF-443F-A7D2-1AF6DFCD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19BFD-6071-442D-9EB3-95F4101D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2F9E-BD49-4D1A-BC7C-8EBE2100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6F9A9-8B25-4AE4-9278-FC7BAE01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E8136-FECA-491E-8E45-03F18C83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EC83E-4A29-40D6-AF49-4E39D4ED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A6260-47AB-4C64-B583-95E9CF3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706-AEE6-4B58-8001-CDF71440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D1546-C230-41F2-B98C-E4F3F3A7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EF66E-146A-4B3A-B0A8-F33EE814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DEBE0-AE2C-4BF3-81BD-1FEC7D76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8A5A-1AEC-4680-8223-896CE430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F33A-1FE7-4685-A63B-99BEAC62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0FF7F-AD37-4682-85C5-DBE6532A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8A89E-CACD-4CD0-B409-D9E879BF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1EEBC-7FED-466C-8061-41FC586B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24C96-496C-4654-91B8-72AADE39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5A16A-B3D2-4807-AC3D-CD1DD228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8A4-1CD5-4C50-A11A-B25AEC16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3A83F-92EF-4F23-AA71-D4855DE3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A3C17-8304-4F62-9660-39B1372C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2C29-30C0-4419-A5E8-07F9A2E9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111E5-9196-47A1-8587-6DC94D09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D4821-C410-4488-B0AA-0C392753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25AED-7784-4F13-AB1A-0FB41170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2548F-5217-4635-8922-F6212851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F88A0-B783-434E-94BC-DF6F23DD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5CC5C-95CC-4C84-8489-68C36A78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CCEF5-D4EB-4EDF-A386-435F8119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F947-A6B2-4B04-928D-F8A248D7726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BACF-5EAA-4BE0-AD71-0D78522A310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0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0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BD42-84EE-447F-A201-552CE3F1868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4B9D-4508-4CF2-953C-A130BC2E32E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5884-30BB-4B82-AEEB-BA1ACA0A82A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B232-145D-41EC-A157-73B1CE98F63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49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49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18DF-037F-4A92-9225-E3D89A85981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A652-08D8-49DF-93E5-670A7B4A09E0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4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4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22A5-160D-410A-82A9-9A94245E074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045D-B6EA-40B0-8E20-3EC8E415FF0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8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8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62D1-B2A1-4C11-B820-0A37491CA91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3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3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B6DE-3777-43F8-8951-C49F0AC92D3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67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67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B36B-5518-48C7-A5E4-EE0E6F19AE9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D40-3F89-41BA-ACED-DE5916297E1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2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2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2260-6CD3-4FD3-80F1-B91E3067896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1A9E-D7F6-4FB6-8801-F5EA557ED58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76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76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C2E9-75C2-44F0-89B6-D396BB8228D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0900-7D50-4CC5-802A-954D0C8E0F0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1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1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1770-718F-402B-A4A7-E810B4A8A5E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2A1A-3F24-4A6B-BBF6-428B7D89E366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713D-CB4B-4891-A7EE-05A559F1092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AE77-1304-44EF-884B-287421D69EF5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5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85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85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8B98-1C74-4DB3-BFAE-AB0AB187C28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AE10-F40B-4926-AB95-52EA01B4846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9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53E4-1579-46CA-A261-9A8113B8C77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A7E5-B386-4F1E-B3A5-9D3B09DFCEC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3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3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7835-BBAC-4097-A76A-1A3D761BAFE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8889-FEAE-4CE8-9BC5-C5D908471862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18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18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5530-71D2-4EF9-A368-A7F457C31864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2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3ACE-9359-499F-B0E7-40A58653817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CHUOKEIZAI-SH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27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6235-1E18-4E58-AA6D-5FBF4B3CFB71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24E7-0914-45C5-84B2-AD46AE0691D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16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17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CCC-167C-4363-B202-F37BFA0EC73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8941-69F9-47A6-A48F-19915CC8900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直線コネクタ 9" descr=""/>
          <p:cNvPicPr/>
          <p:nvPr/>
        </p:nvPicPr>
        <p:blipFill>
          <a:blip r:embed="rId2"/>
          <a:stretch/>
        </p:blipFill>
        <p:spPr>
          <a:xfrm>
            <a:off x="414360" y="208080"/>
            <a:ext cx="8375760" cy="163440"/>
          </a:xfrm>
          <a:prstGeom prst="rect">
            <a:avLst/>
          </a:prstGeom>
          <a:ln w="0">
            <a:noFill/>
          </a:ln>
        </p:spPr>
      </p:pic>
      <p:pic>
        <p:nvPicPr>
          <p:cNvPr id="361" name="直線コネクタ 16" descr=""/>
          <p:cNvPicPr/>
          <p:nvPr/>
        </p:nvPicPr>
        <p:blipFill>
          <a:blip r:embed="rId3"/>
          <a:stretch/>
        </p:blipFill>
        <p:spPr>
          <a:xfrm>
            <a:off x="414360" y="5748480"/>
            <a:ext cx="8375760" cy="164880"/>
          </a:xfrm>
          <a:prstGeom prst="rect">
            <a:avLst/>
          </a:prstGeom>
          <a:ln w="0">
            <a:noFill/>
          </a:ln>
        </p:spPr>
      </p:pic>
      <p:pic>
        <p:nvPicPr>
          <p:cNvPr id="362" name="図 6" descr=""/>
          <p:cNvPicPr/>
          <p:nvPr/>
        </p:nvPicPr>
        <p:blipFill>
          <a:blip r:embed="rId4"/>
          <a:stretch/>
        </p:blipFill>
        <p:spPr>
          <a:xfrm>
            <a:off x="468360" y="5904000"/>
            <a:ext cx="777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Y:\編集\経営編集部\新テキストシリーズ資料\Basicチラシ\素材集\金融政策タイトル.png"/>
          <p:cNvPicPr/>
          <p:nvPr/>
        </p:nvPicPr>
        <p:blipFill>
          <a:blip r:embed="rId5"/>
          <a:stretch/>
        </p:blipFill>
        <p:spPr>
          <a:xfrm>
            <a:off x="1332000" y="5904000"/>
            <a:ext cx="2108160" cy="819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4BD2-DA11-4114-A97F-285F43FC612D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CFCC-288B-4531-A419-C87E6308016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3BF1-5BB3-4A0C-B3CB-04458681BE39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1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512640" y="465120"/>
            <a:ext cx="82090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B512-1F32-4690-9BB2-800169097E75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4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64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5B79-037F-4971-9D25-0C67B2EF3C38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7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10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フッター プレースホルダー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21DD-1716-4DAD-9337-948C6944E9BD}" type="slidenum">
              <a:rPr b="0" lang="ja-JP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0" name="スライド番号プレースホルダー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Segoe UI"/>
              </a:rPr>
              <a:t>中央経済社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826920" y="442800"/>
            <a:ext cx="77058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4:55:55Z</dcterms:created>
  <dc:creator>浜田 匡</dc:creator>
  <dc:description/>
  <dc:language>en-US</dc:language>
  <cp:lastModifiedBy>浜田 匡</cp:lastModifiedBy>
  <dcterms:modified xsi:type="dcterms:W3CDTF">2015-02-17T05:53:19Z</dcterms:modified>
  <cp:revision>9</cp:revision>
  <dc:subject/>
  <dc:title>PowerPoint プレゼンテーション</dc:title>
</cp:coreProperties>
</file>