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92A-B32B-4A4D-A94E-58FD5A24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7A7-87A1-44A5-B46F-182D6466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7864C-FF9A-4214-8473-D14C8CE9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06008-5C47-453F-A3E5-9948FE69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3B2DA-9875-461B-8333-1AF0E9C8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F49BD-BEAB-48DF-9960-E561E510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2E301-1A0A-4F6D-9FB5-144C87D6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C7AF3-211A-4A94-844A-A14AD85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E458E-E8F9-4A64-9A77-0B0A835C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87AF7-16B3-4377-89E6-816BF2FB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2A47D-1188-4EFA-8B85-F657837C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5FA97-19EC-4956-9947-5CDD0106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F23-DD90-4A20-B8F9-E8073371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9DB8E-AE2F-4F47-B378-FCA3EF77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C040D-1D78-4778-A884-4A60997E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6DC61-7842-4549-AEE1-EC976A6E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5D90B-3EE0-45CD-8E9C-98D7961F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5664E-7321-4BDC-88F0-4034AB70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DCB81-2CFC-4A23-A855-436A1679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C88C3-2346-4707-81F9-FF34A135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8F355-7076-4954-80E7-9FF9019A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9A2DB-D742-425D-86AC-A274BEC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BBE95-F8F3-476D-AF67-4C1DA87D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A4A-5999-41F6-966B-EFB2F06F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82257-2CE0-427C-B9C1-ED7EA389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C212-2EAC-46DB-9530-5C7EE241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783D-14F3-4ABA-8CD8-372D89AC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0123-C8B1-47CC-97C9-CA7CA7D3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AF6A-E66F-4FBD-8060-CF8F7D95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D434-5746-4C87-B89E-6DBDF1B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6A22-D2B3-45B4-9BCE-C6BA2064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72C3-818F-4C92-855E-A6932748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351-2D64-4455-9FFA-7B3C4CF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E0DC-4A7E-4768-9F58-82B08409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1334-B5F2-4826-972E-EBB12FE7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2724-75BE-40E1-A0CE-DFD1C0E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3DD1-8A9A-47AB-A7C0-2B340E50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2335-BBB0-4957-B6FE-4ADC1F0D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3919-42C4-4DAD-99EF-A599F223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B6D1-994E-43A1-936F-E0D1D667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7E34-246F-42DC-882A-DF8C80E7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BC04-C300-4C80-A725-025F6312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CDD64-C2EC-44F3-BCF7-AC8C6F97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4BB-8112-486F-ACBF-3F33F3B5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D66D-72A3-45C9-8D7D-C6C6681F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D8F9-12B2-465C-AD1D-CE8622D5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135D-4DB8-4519-9E4A-3403912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5E7C-9CE2-4D12-A533-B2D2F71D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EA23-41F7-41C2-B699-F87F29DF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92FB-27A2-4DF8-A292-EA930731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CFE6-D191-4057-AC3E-9499D217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5F4F-1908-4935-B977-0A872378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DFCD-ED8A-49AB-A164-8AF7195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AFA0D-E5A3-4EC1-99FA-CAE3B501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816-53DB-451E-814D-A9E9B39B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5471-FDAF-420B-83DF-DC41B5FC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B1092-5C44-45BB-8D04-C78062B7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7B297-4CBD-4E59-980E-127E4DBD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8800-DF25-4C6C-A4BE-83F23E2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22AC-14C1-4341-BA15-066B300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DF86-40CC-425C-8757-42C9ABE6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987C-071E-41F3-AD24-B09D878E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E5BF-B1F4-4FE6-A297-437AD38F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2A19-941A-481B-9D1A-71D051D2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EBE51-7D24-493D-A2C6-3B222197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E67-1733-49BD-B4A6-16674149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7B6FC-A035-4483-94A0-89320A15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D9E8-D2CF-4AFE-B726-C318210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BEAAE-3A01-44A0-92B2-D11E83C2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F55DE-2EB7-4DD7-BCC8-3E8AA0AC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8FBC-5F44-4707-A33E-7914F11F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43AF9-8B63-4553-AA83-19019C9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75E4-7CD3-4D64-80EC-5EFA0E2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7B03E-9613-4B24-9B3B-4BB75A54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823F3-9226-43FF-9FFA-31E2AABA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ECC1-7A7D-4EDE-89FB-4D860B9C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983-09CA-45FA-97FE-C8E9007C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028B4-E0A5-410C-988A-84FCC5E1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8B05-E20D-4654-B6FB-9CB4917C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EC53-06BE-4A12-8F63-F2774F4D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9C47E-AF73-401E-948C-41F2E611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77C8-8916-4B32-8657-591871D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07101-9744-4CB1-8BCF-074AFF55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A1AF5-2B3F-4B5D-BAD4-B425F114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B490-F443-438C-8E3D-3A4087E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7278A-3A2A-45EF-A749-B107CA4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4E2C1-0FEC-4D85-9EE3-DBE96996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77F-79F0-426C-895F-79D435B9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78DA-8712-4DFD-93E5-4B61D9A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E383-FC23-4C4C-B9A9-21F57F54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D8ED2-FCED-4F5E-A186-609DEAF0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DF9FF-3A33-4D71-AF04-D924FD78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63D8F-7943-409D-86E1-3CD8A420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CB85E-1CF9-4A22-8D5B-486A3D3C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E72D8-2434-4604-8BA1-BE269EB2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9BAC2-42DC-428A-8BD6-49DD3D00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A58F4-DF6D-4F40-B4C2-894C0C52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8C18C-4B4F-4B64-987B-910C056D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411-EF99-4623-8DDB-0E2AB50F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7EEA2-194B-4178-ABF2-DC25A80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50A4-0200-4069-877C-F7F9F08A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2230C-9698-4AC4-BCCB-12EFB8CE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AEF19-DFCC-4102-B1A1-254A6C6F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39BAE-184D-4F37-B5CC-E435E87F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3B618-5B14-47B1-9434-6B44BA97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88F90-23BF-4CE2-89FE-26E385AC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4DE4E-DDD1-41C3-BFBD-2F851257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A8BBC-FAA0-437D-8028-C7017896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D5B09-B4A9-4939-858D-265E652E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895-C0AF-4C8C-9074-C5B0A639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7599A-AC77-4B4E-9241-84C67C2B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0619C-9C14-48B8-BCFE-9152C616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CF447-DDFB-4200-BE70-CEC38CFD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3933F-E91E-4DBE-A2BE-68FC1629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845A4-220B-492C-9ACF-E588473A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B74B1-5441-480E-B8C5-357B57B6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2A47F-7FFC-40D7-AED3-34911B5E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97BF7-4B5F-4206-89A8-01D96324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EAD28-9A94-46AB-9F0E-86460788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3D8BC-9369-4F59-B590-D7A90D49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0B5F-8EDA-4C75-8279-5DAE033CF51A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FF8C-B78B-4B05-9432-24B055C2022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6EF1-9023-4363-8DF2-BA5EECE37DB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7C0E-E065-4D4F-9862-296E93EF8D1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8E81-A587-413D-B7F1-881D117C629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C898-EE44-4A93-BF39-2E08C53046C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5BBE-6FC9-45CE-97CA-B3DAD9CE306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45AD-28B7-452D-A68D-4090497064E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E348-E4DC-438F-8847-B7CE25BE5E3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8573-D6A6-4811-B0DB-1777496FA0F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2C66-176A-43BB-A921-C2D9103F071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6ABE-5898-403A-9B50-FB8CD6D4595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839A-F02A-4B24-BE64-CCE513920DC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9F9B-928C-46BC-A45F-A7FE82C8738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119-651D-4F4C-95E1-EE711CB88DC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D6A2-36D2-4638-A7D0-B10A338C86F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0D88-646E-4C59-A598-6AC35DF7CD9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ECD2-5149-49B6-A4AF-97BDD843933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904-9950-4D43-A343-68DE322F74D9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353880" y="1884240"/>
            <a:ext cx="83170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6A57-09C5-46D2-8B11-D297832A44CE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F2C4-D62F-48B8-9FF1-EC9744947274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539640" y="1271520"/>
            <a:ext cx="83012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AAAF-6B9C-4207-8F28-FDA8909BCD8B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1042920" y="385920"/>
            <a:ext cx="73850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09:07:48Z</dcterms:created>
  <dc:creator>浜田 匡</dc:creator>
  <dc:description/>
  <dc:language>en-US</dc:language>
  <cp:lastModifiedBy>浜田 匡</cp:lastModifiedBy>
  <cp:lastPrinted>2015-02-05T05:26:18Z</cp:lastPrinted>
  <dcterms:modified xsi:type="dcterms:W3CDTF">2015-02-17T05:55:06Z</dcterms:modified>
  <cp:revision>8</cp:revision>
  <dc:subject/>
  <dc:title>PowerPoint プレゼンテーション</dc:title>
</cp:coreProperties>
</file>