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DC6-5863-44D7-AA5B-8C8ABDFF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779-1277-48A1-99FE-CAA164E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8BF50-7FF1-4B69-B044-9587121A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C037A-D018-4861-B94B-BB9DFBC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D60DD-A9FF-4AED-AD96-F26EE55C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C186F-AF08-40F1-87E6-3E47EE5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06860-097B-4F0F-8660-35483565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AE0BA-1792-435C-BF19-37083C5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1D65B-5EFF-4BF6-BA50-06E3371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8BA30-7943-4EE3-A493-0750C5F3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80630-A488-4442-A466-9DE0746E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427F6-4A76-4658-9A56-5F9BF9CD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6DD-2E4C-414E-BFB8-D62A2B60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E8895-A7E5-4152-ACB7-C37FE8E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7B06F-5AB2-4D63-AEEC-4F076E8E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0D587-4D31-47A7-AB65-25339B6E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F7912-83B2-4554-B403-BA861C3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B7390-E1A9-415A-90DD-45E0B07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20569-714F-413A-AA46-1622814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476BB-A3C3-4EC9-ADAD-65D8DB3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1515A-278C-49E5-A8F5-6464623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C6960-9451-45E2-9655-8E3D7ABE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2C0C7-F0C8-4E26-8817-47C2CF7B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8C8-5AB6-44D3-9C58-69FA66B8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911E0-88D2-4BA6-82E1-D0F18408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8AD68-F0F5-4579-949A-0F7E2243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FA80B-03E7-4940-B77F-DE44E0A7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1403F-2613-47F7-AED5-0662FD2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4063E-BA4E-438E-8770-47B99B97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7F884-09CD-4953-826A-571FBE3D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A6E2F-944D-4D7A-AC4F-6065423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38FA2-A131-4816-B63E-4FD8C7A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58894-7852-4E6D-90E0-5528D7D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3A90C-91F0-4258-BB8C-1C94F0E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384-48A6-4512-8872-9D1EE519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E22F7-0BCB-4504-AA92-E3251DC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64AE0-7313-4CD0-BF3B-2D2D1467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9E268-2181-49F2-90C6-31E08E51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1C60A-A7F2-447B-9539-68D23D69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74C38-1139-4F61-B2C2-8B1D2F0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E63A0-E9C4-4EBF-847D-A73D30B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FAF0B-9EE8-4F15-98E2-B13677B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9F133-140F-411A-B8A5-BFCCDBDC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7421A-30B3-449E-9A4E-7BEF0B3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0007C-7370-455D-9F05-E082592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6D63-25EA-4C0E-82A7-5B3E45C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174BB-6FB5-4E7C-8DA9-9760189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5F41E-BD85-47AB-92F1-7F971369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4F8F9-05B3-4C6D-AF8A-190D025F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2280B-426D-468E-8AF9-A6C29F51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F4538-19B7-4727-BEDD-B0A16E54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BC42C-8847-430E-B35A-57A14B27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6487C-1F14-4162-8E66-396FF2C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B5892-8AA4-4168-979D-72EC6855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55B86-5B65-4B10-B642-B50DF6E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3BD6B-A93E-4243-BC94-5472AFB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1AD9-A938-44A8-9F8C-DA236BB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1DC12-C415-4886-8B50-B74C456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CFF2F-92CE-4183-A023-2F84B22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6A893-E757-4886-B4DF-BF5199E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ED79E-B66C-476E-A0FB-2B5442E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ADB88-B3F3-4AD3-BA2A-82ADA2A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305A8-8421-41C4-8213-57BD7E7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67888-5370-4F16-8ACC-0104CDB0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BF134-0042-4579-9D3A-F219DB8E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DC8BA-07EA-4363-8678-3439B0FB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34587-56AA-49A5-9029-77EA792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DC6-0481-46EC-B115-D80CA3C2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70BF2-D603-42D5-974E-FDF903D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B0253-699B-441E-A8E8-9D6BE14F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B88C0-F21C-4AF0-95B6-A92A1B0B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41011-DED6-43B2-87AC-2304A23B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3CFFF-04D1-4A6D-B327-2A6B218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726D9-8333-48B9-98F1-07E7479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C3148-B212-4189-A74B-6882947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4287B-63B6-4F58-8EF4-5879056C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09364-A5EA-4FA0-B6E4-8B53CFAF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1B4CC-E031-4D8B-B99F-5A252CF8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39E-B20F-4540-8FE0-55D6E119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D3670-A595-4901-B6D6-5531015A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306A1-3C89-4772-B01F-7527B1F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A8007-9BCD-4D00-BB85-DD8E15F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DC174-06BB-4C1A-88E8-25032FD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CE666-A188-47C1-8A6F-C486AA6B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6E810-7F2F-4740-93C5-507A8E08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27CB0-9EF3-48CA-B9C1-7487324A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39207-3859-4637-BCB9-BE55967A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E6842-080A-4A90-A654-9CBA69C9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5B5DC-6270-4399-AB90-D32F9889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5292-CC68-4F20-9B96-4718538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C80D7-9F96-4064-8B46-D7FBC0B5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0FFFF-3C96-405F-8692-2DC82038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9FA9A-C336-45A1-8497-B147726E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D616F-6A4D-4543-A6B0-7F88482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19920-72AA-4852-B078-13D471BC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CCA36-70B0-4B2B-B44C-CE418AC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48A8F-573E-417D-8EEC-685F04A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96D20-4CA2-4AAE-9AEB-B03CC50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DCE36-AC8C-4D04-9734-2B5F5A6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5E63A-8913-4A85-BC35-A7F0B42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D134-6997-4067-B4BD-A80D797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85DE7-225F-4FDA-97CD-97D149F6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83090-E5F2-4C9F-B3A5-6DF9C1EC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753CC-5F46-4AEB-A21C-00D66A8E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90057-2D38-45CE-ACCD-BD41E6D9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67157-A502-43F7-B1C5-443BA7B6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48805-AD76-40F6-BC3A-2442A62B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C1F0E-7532-4720-87DF-E7C3E30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08DDC-D9B8-4515-B2A9-A239596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7B363-0D8F-4CD4-A9A0-30C7648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76426-8877-4387-8B8B-C28BBDE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288-149E-487D-8B75-C84D3EAC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E212-121D-4113-B238-807E790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C356C-BE14-49B4-B755-8EF76B3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0946E-6E7D-4162-8085-1D6E12A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8751B-B62A-4D18-BE57-40F821A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873D7-89E9-4348-868C-D2F3BED9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29A98-3E90-4DED-8960-C1840BAF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2F5AD-1E98-4919-AC2E-C6F9B538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0C4D1-EBE2-40A0-B200-943B66A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497D4-D95D-4D26-B195-EF503F1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B4712-C556-40AC-B335-04DB920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279FB-5DE1-4B2D-A420-3920CEEF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6FE-6E34-4A6D-B509-DCB452A8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3C937-23B3-4158-B409-A2973DB8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69898-16A7-4AC4-B68B-411913C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7A7B29-14D2-4B67-A169-E397510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E74FE-7BEC-46F6-B035-016CEA1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3578C-69F8-40E3-A3E5-C1CA050C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79E71-4E7C-4582-ACA2-56F931A8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F7539-A8A1-4C0B-890A-4E3D016E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11913-6DB6-4647-90DD-7200BE98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D0659-6A97-4907-87C5-380DA914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E8303-DB24-4582-A21B-4A8927DE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B7C1-6141-48A6-94EA-6C82E1DF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2A35D-E0FA-4703-BD06-5EDF56E3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8BFB7-3201-48F5-ACCF-D6A0D1F1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3DE53-5791-4703-A954-E9D479DE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E1976-5FEB-4AE3-A924-B3AB5A1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95E07-DF11-471D-9A45-2C25EDA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68020-2579-4C57-9263-7BFA172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727B2-CAB0-4776-851B-6B8C8C6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3E45E-014B-49B4-916C-99696BB9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5A164-2C8D-4ACF-8C5C-4FBE4D10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209FD-9EE1-442F-B9DA-C9002272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21CE-CF10-4990-9F88-3A81B990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BC80C-3F2C-45CF-9197-97E968F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1CD91-AB58-473A-94A6-95369FA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2D8C4-6050-4B38-AF66-DF89EEC1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A5893-B169-4D25-8A47-D8CBB47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8BAC4-DD04-47A2-A632-0BF5E709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54419-A8D0-460A-A3F6-18261709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C3C1C-4900-4F61-AD07-8B6DA273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463B1-9A35-46FB-83BC-CB550DC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9E585-5B01-49B3-91F5-A50C7D1E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7386E-102E-4B59-9EC9-205A7A01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1E5F-E61D-46CF-BE66-0CEEF11C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889F6-F67C-4587-AA21-49D232D1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92CC-29DF-4E00-9F62-66E8CF8E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1187-23BA-4EF2-B404-F76C622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4D40-29EA-48C7-A618-57BD4602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9747-6F2D-4F17-B188-3F46F973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1A01-1256-45CA-8573-DB2D8A72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E4D-B29A-44B0-AD8C-4B258500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C2F2-FFB3-4004-9C41-70732C9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69A3-0D71-481D-95B2-E747665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D8F8-A625-4D7C-B6F7-97B0367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2227-28B7-4AFB-9097-357285B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3D53-BC7F-4DCC-85D5-086B8D1A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6F40-DCC3-40E2-9049-42875B18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9DB2-7FC7-47EE-B33C-DBBEAA77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6AFE-1A3F-4A5A-AA24-53449C6E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E4CC-85ED-4210-9EEE-EACB432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49BF-9066-4ED3-8ACD-2893F87A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C99-0EB2-4105-A55B-EFA6AA80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DFB8-59EC-47D2-B298-C567A456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97CF-05E5-4290-BBCF-3C2C1FFF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BA08-3E3A-49CE-A575-3AAB155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FED6-245D-4142-AEC5-590FB5C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C23E-8C27-4AC0-90DE-E038C84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9A03-DB5F-40BD-B5CD-CF65BE0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1B85-BDCB-4634-8819-A14F705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4969-12E8-4E1A-9557-2FDFC421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19AD-7E34-496D-A2C8-4A3CD543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ECCA5-489B-4750-9052-CE5196A4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9B9-A9AD-4160-AC8B-BDCFA2B6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503B-AD40-44CD-8B92-470A8D0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2B74-B2B9-4540-8E0D-DFF75B78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40B00-D704-4361-925C-418BBAB9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2D23D-F0FD-4668-ACD0-5E8A09D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98D1-C735-476D-8988-9B024B37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34E8-002A-4C45-83DA-5DEEC72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BD5A-89AB-4409-B596-DBA6B83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B39A-7099-4183-A2CF-3F71730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5D58-2F87-4696-89B5-BBF69B3B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1F8D-29F9-4636-9A08-D49A97EB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288-0FB5-4359-8E20-27B0F24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D574-8DE4-4DD5-B5E7-0BC58472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CAFD-E473-4B16-9CAB-35326877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325B-7C59-4287-8670-6B77369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3BA5-663A-4988-A25B-6E4E7C59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10E5-E1F7-43CC-971B-8F8DDA7F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B1183-96D6-4DED-B22E-0CA3B47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DA14-E2D4-4096-B836-7D1BE5A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40B4-54A9-448C-A4A1-DAB8E3CE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5C79-23FF-49A7-B3AA-AFB75CF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72D4-02B7-4DFC-9DD0-91C3A88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410-AA78-4926-AA4C-F3BE884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0C1C-0E8D-4B61-B0A6-981C2BF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CF5A-27EC-48B5-8EE2-FFDC9B3E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EC01-8893-46EC-876F-7011DEAB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5644-E662-42F6-A004-17CE63C6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68020-4D9D-4EF5-BB00-A557C4D4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711C-9E60-4FEF-9849-F5FF412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1A5D-61B6-4DA6-A293-BB33669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DF91-B2B5-45A7-BC2F-8DC9DC3D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6B2AD-D3D1-4D68-96E3-548A6215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04E0-7ED7-478D-B9AD-C850008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8A2-36D1-4A28-B383-2291A6D7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E938A-12A8-48C4-A249-7B9C3BAD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0266-49B8-4F84-87E0-74E5934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07154-1DF2-47C3-8D6A-298BEDE5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9D80-8551-4E41-9FD2-CF76B028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8D85-C6ED-4822-A009-92E100B9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D4607-7F8B-4EB7-9D4A-51EF99BA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66474-4FB2-4CF1-98B9-C1DA3D6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9C08-7F1C-4BF6-84F4-4526CAB7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7164-F071-43ED-8955-88FF0681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CE149-C40A-4167-8C74-971F04B4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174-FB38-483E-92AC-9BB6F515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2B8A6-88E7-4168-B357-FCBED74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28518-560A-43A7-9D04-A0414D9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953AE-9FE1-4BFE-93B5-F76CFFF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F8B69-B3D6-42F8-9204-F8154CD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0ADE9-3E19-4CAD-8B28-FDC7560F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4EDD-08C5-46C0-8AB2-57A7876B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9493-E871-4D31-9751-18258840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FDB7-6AE1-4698-8ED9-B6853A0B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6038-57AF-49C0-8DF7-E09672DB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59344-C7CE-40B5-8A47-A69C2E68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AE74-1881-4BC9-9648-A952CB11820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233C-8A9B-4119-9A49-54B62DCFD03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80B-F754-438B-AFFD-A1C376B2D5C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0B6A-A37F-4FF3-AB64-81B6165AC71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9825-E68C-4C1B-BAF4-7DBEBECA8A3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1F3C-B6E7-406C-A41F-F44F4B53AF6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9948-C1EA-4E9D-951B-5DE6D21BB4B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ABC-36B1-4647-89A4-BACEB187712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7F1F-BABE-4B1A-9DC6-575A3D6EF9E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C22-62B4-4A71-B64D-14EE6D09ABC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0738-6994-4B8F-A00A-D5220502B0D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772-9B75-4CFC-AA74-3B4FC4400ED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5CA-1D79-459F-AA6B-84202902DBC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318-6816-4C4D-84D3-EFEFC182B98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FAB-C4C5-444A-921F-60B0418B63B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692F-732B-41D5-8095-4DC782BD04D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773-F7C2-4998-B501-83684B80AC3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AD19-FC89-4874-9C11-3F570F43163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A99-50A3-440D-AF79-F86B9853DE9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7E0C-178A-4FC1-A133-BCA1DEAF6A2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B66-DE37-44C5-8786-A2466802872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E587-D50E-48D4-8CB4-947F4DCDD6E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250-72E5-4777-B851-5F48C55BB5F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C81E-5681-4591-840B-4048E2432D2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645-2A96-413A-ACB4-CC24F0BE117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0214-EFF7-4899-995F-ACAA8129BE4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23C0-1444-428E-A528-7CA92789E72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481-5C76-4C70-AE63-1E05B1D5C3E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99B-DC13-485E-A726-B5BD4841C63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F6AF-985C-4702-9E24-D084CC909FF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831F-E263-44C9-8078-B3E0661385D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9E1-0D4B-4C73-BD9E-7201E481088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11CC-1F33-430D-BFB8-5A297BCE259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B910-F0E7-4797-86FD-B95CD09EFDD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F693-E90F-491F-97CB-51BEED32A5E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B244-5402-4CA6-B3E5-2537C85FF19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3D7-217F-4BF0-A022-363F03B37E34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539640" y="1127160"/>
            <a:ext cx="8196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5B4-584F-4EF8-BB54-CC29A1B69A8A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36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D98F-D7E0-45A5-8E0A-2B8FFEDA9512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539640" y="647640"/>
            <a:ext cx="806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8A61-EBE4-4151-BAFA-F0E169F4803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45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1:19Z</dcterms:modified>
  <cp:revision>6</cp:revision>
  <dc:subject/>
  <dc:title>PowerPoint プレゼンテーション</dc:title>
</cp:coreProperties>
</file>