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EF7-2232-4195-8D51-D62847D5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8C4-74D1-4B4E-A46B-D91E4727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7F74-7127-43A6-A588-7465373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BE8AC-A797-4A25-AAC8-057BE72E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1D67C-EB62-46F1-979F-48C8D8A9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2947-8DB5-4144-AA05-06190AC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87836-08B4-47DC-B47D-165B3C5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B806-A508-4272-8B9B-74A9D8D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42EC5-FDED-4435-851C-986B17E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5F88E-F32E-4C9E-9C50-52268339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3CC39-9C76-47B1-B1C8-E4401677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B8384-1EDB-4C2A-B644-EFF162AA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E3F-F7DA-401A-8E6E-A1C21D25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5083B-9452-4002-9C5F-995F7B28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BEB35-38A9-435C-BF5E-EB61D8B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9E6F0-6D06-4BDC-A40A-63191F1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3A936-3D51-486A-A0B1-05A6C8B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12B2F-EBF0-4B20-949C-C314008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596CD-01C3-48B3-A3DE-676C209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AD6E1-AA53-499E-9B40-FAB4269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A5F7A-0E41-472C-8ABA-47E5D15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2C717-EE03-4722-B675-4539EDC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3F0FB-6504-4DCD-B7FF-87285256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754-B6FF-45CC-9F44-6DB48EE1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C82AD-ECAB-48F8-BC22-9B01FD1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3F02E-030E-4674-B09D-FA136B68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32067-A0EC-468F-AB60-F31E299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452C1-96D9-49A1-82DB-DBF79246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4E5D-0E1C-4E51-9BCB-938DFCA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9954-83D5-4A9F-8F2A-6BFF103F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1EEB-6535-4E18-BD17-0C89C4D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0D871-0837-4024-B96C-BCC3B66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8310F-77A6-406F-B2BA-26E5229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FB8F-5EDD-42F7-AFCF-60D7619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E216-B66E-4612-99C9-9BAD5B0B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79679-93AC-409C-82F0-E3A024BE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53EDC-4853-4E41-B8AE-5430F94C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FB9C-03A9-4763-AE02-2F761DAF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8E469-067A-4509-BEBC-EC2EF182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C706-7E0C-4502-BB37-55E4F98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B3331-22EE-4D08-A2E1-01F8DBD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49595-02C3-460E-91A1-1886994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93E3-5437-4124-900B-71C0E8F6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59C71-EDA4-49F2-B0A9-12156E2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43177-1B83-4D79-9C40-07FC11E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4D6-B931-467E-A35B-443018A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DCE59-8B41-40C8-B5DD-06A938F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C0BF4-4DD4-47F2-B8C2-B058840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5525F-D530-49B2-8E89-CF8F26E9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C405E-7836-4C18-86A5-7CE6A30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5B3D8-D740-4DC5-818D-83AFCBA3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BA4B2-73F7-4C2D-A631-54D996F8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57774-A9D5-44D4-A7F9-C560B954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47FD5-9C08-4835-9BCE-EF8EDAE2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58DBE-A194-439F-8960-F680345F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325D0-EF03-4BA3-AF14-9221B1B2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5C8-52E4-4342-BA78-702011B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429AA-8C15-4CF9-B5FC-C8F6F9A9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6E3F5-F910-435D-9DA8-B81F41C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3CE16-5157-49EA-B0FB-F1D977D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A172A-1A67-4EB6-9F3F-709583C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B9717-169E-4D8E-BBDC-4CF993B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512EA-2B48-472A-930E-45378B3A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E4AF5-D498-447F-AD3B-C64ACE80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7DC0D-C5FA-445C-BF42-CAD99101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BE0AB-91A0-46FE-89FD-39872602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12B57-7F3A-44AB-A9BE-FEB30E73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29DD-5CE3-4971-B876-1043D1B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24D3D-2427-4554-8D11-AF67EBB4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7D555-C68C-4DED-BE25-FA5A1C2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B2F80-4A3F-4554-B64C-3E2D9D7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F6E67-3FD4-4832-8CE5-7E5657B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FC122-6C91-4CFA-BCBB-2694430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D5900-8EDC-4285-B122-B6674F4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323E3-6D30-4291-BF9C-569D796C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14EF3-D33E-4FA7-8118-4E2E62E9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37D14-8AE9-4600-BE23-8E355F5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F0F5E-2EC7-43D5-8ADF-D0BF7EEE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5470-D5F2-4346-BE56-D37F288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9A8C8-C08E-4C7D-A0D6-4097D35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216C6-AC97-40EB-A635-EE65461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F7EEC-D8CB-4BCB-9201-2EA3A85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27E71-A3D7-46B4-A3AA-05343E24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949D5-951F-479E-A2B1-B76B2C1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0A84D-FCF3-49D9-A13E-798AEDF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249E6-07E9-47D9-9196-C41B735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A5077-E664-4D8D-B839-AF1BAAB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FF3D4-31DC-4BB4-B3F9-45407ACF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A27C7-2348-4B33-A875-FCA32B4F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7896-77B6-4EF7-A9F2-70D37C1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A26EB-8A3C-47CD-BD72-75B4B276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12438-CD0B-4F30-B065-F62BA7D6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A9647-49A2-495F-8BD9-63B3E302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CE222-E957-4171-9966-CC34625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84414-2FF1-4C8C-92CA-E148454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302AA-969D-4A12-9375-93FBA5F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5E665-0FF9-4500-AF90-2B6308BB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E93F6-7E3C-4A96-BB63-D75981B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527D1-BB8B-462E-9A0B-DA15E69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4B957-3B2E-4C7A-A759-63E3013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F8F4-68A8-4C0E-AC6C-F2870EB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678F2-37D2-4E8D-9A4D-491D3EA8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E5093-7A43-43D4-A68B-61C2D313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5FCA1-F540-4F73-9054-5F30CAA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C9A83-C3A6-4DA0-9D6F-271E7E18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DD456-FE1B-4BAE-B45D-7A801507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D4ED8-E070-4CB7-8381-DBBF441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B9EAE-E33E-4ABC-AB96-EAD8A544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E2481-1C33-4D4F-9C1B-F4275F5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A9270-AA85-423B-ADB7-65F0055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776C6-D134-4F4F-A592-967E318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BAB-531A-4781-83B2-00616A9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D56-7654-415C-8938-2298E06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AE53C-D1FE-46D2-B1DB-77F7F6C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E5DEE-3E75-4166-A548-D9E4B9F9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60271-F62F-4F0D-9161-E67AC8EE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41BC2-7E25-44B1-B969-0B5435B3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D24B2-C408-4E97-9255-19BBEDF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D3BCE-8DD9-4910-90E6-A62D21BF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2C8BD-BF82-40EB-BDA7-2DDC0A8D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CA2EF-BD4C-43DC-9DEE-2137C96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B1BFC-BE7A-40EE-9BE5-0BA1C64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5E6C8-1717-4061-B432-133E445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302-E1C6-4375-9305-1206F9B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B2FD9-2DDF-47F7-BB8A-CFFCF38F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CB9D9-E050-4FDA-A7A5-94F9FDFD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C46FC-1AD8-40E3-89D6-27B61DE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2B682-BEFB-4DA5-8134-6ECE074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836A1-5774-46FD-85CD-92065DB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09392-70F3-4DD8-AC78-98F65B26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764A6-1679-4734-9B83-C00D411D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34275-9B34-4631-B20D-EB649FE6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F8DAF-84E1-4554-A854-888B35C8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BE9F75-E726-42A3-A3ED-00BB3A01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3136-479C-4703-90BF-58F9343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DD3D1-BAE3-4BF1-B191-204544B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B4117-7228-4BAF-A70D-9D6E1BE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24854-F933-4232-8223-783A1F1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F91E1-6D7F-4F06-89DA-77BE794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DE3EA-2F14-47BB-977F-7907914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F0F28-F717-4152-ABC0-D508A8E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3C402-4662-4E8D-AA2B-81F4628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B4DBE-2D4F-4F6F-A6FB-0FD37641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3DA7F-B27B-489F-939A-9CC08C64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229C0-1CE4-4337-99DC-CB92719B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27C3-26CF-48C2-85C0-BEBD860B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7F854-1613-4B99-BB43-484B930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74641-B37D-47F5-A160-5A538A85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55801-5795-44A5-AB5A-73E2E1B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40CEB-52C6-409F-BEE2-2FEB335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0E894-CBCF-474B-88FD-BA62B8C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16B36-4608-4BA3-8A42-6F3A370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5C7AB-456E-49ED-BECE-22DE3D4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8A033-679F-4CD9-8344-7027753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209BB-A84B-4113-A630-DC55F76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6BE8F-9AB4-42AC-A578-5D528A91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C5BF-97D9-4AF8-930A-5F304C7A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8C428-094F-4B96-9610-2A5F6F52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550E-5531-4813-96BD-F9601857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228A-D9D1-498F-B1E7-A7613B7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7946-5CF3-4571-9FA0-A9AA7D8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9FFB-85F9-4B90-B8BD-ED7AF2C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C651-AEBE-4CAD-A2EA-0669657F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1A9-575F-41E8-868A-0CB96FD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1793-7F06-419A-8349-869E768E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C486-E099-4067-842B-22B33FB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D7E3-C3B6-4A6E-98EC-2405D73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A5EC-4B50-48E5-B848-F60D4A6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D0CC-500E-4D15-B596-CAB5C8B3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70DD-B9B5-41FF-B7E6-37D3B0DC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2A21-4E71-475E-90D9-22EE6F86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396E-ECB2-4434-90A8-AF732A33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788D-72B1-44AF-B4B6-5747036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664E-EECB-46E1-857D-634B808B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B5B-378F-460B-B4E0-9706B5D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0B42-DAD4-43CC-886C-E0C4BB0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AB3D-4DB4-4CE5-BEFA-33A81C6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65C6D-7C75-4DFA-B355-8C2C0F2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1537-BDF6-4120-B6D5-9CD187B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C10C-A6AC-4CCD-90A2-4ED9C86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EB32-64B6-4B29-9EF6-D0B94B0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7959-A8C2-4AED-A458-2ECBE9C9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4177-C73E-494B-A049-C5D755AD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A886-A37D-47E8-9362-F1D0EC4D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8116-64DA-4CBC-995E-B0CC831B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A8C-5A55-4452-AB9B-B0A91D9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0385-F6CF-4A4E-96C4-E4C4DEF2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8AD2-61E8-4204-A511-44B1C9B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F8CE-DDAC-4BAD-8C65-74576B2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3BDE-BBC7-4D26-B1EF-41A10FEF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6F70-CB7B-4F63-9246-C40BADD7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F1F9-77B5-4F71-8A8D-90ED73B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EE7F-1DE4-459C-BC42-463D5C5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37B3-404B-49FB-9029-0D7D5FA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D628-E8FB-4258-8F74-CAD9735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493C-5F72-49CB-99AB-93DEA109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506-F4FE-47CE-B5B0-297A564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99FC-6F25-4239-B999-B5CF61C0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72A2-4A0A-41D0-BBCD-561E664D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B575-F8A3-40EF-9F5A-3D7ECE67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73A1-515F-4089-A508-0F07DE97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BC78-85BE-4E02-BB19-7914FFA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139E-9C41-4EE0-875F-3BCCFD39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34C6-BB3F-45B9-B82F-7A386DF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F47A-3469-4195-88F7-EB3CBA7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87B2-9823-48FA-9507-8C7BF36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DBC2-8373-485E-A908-AB8DC93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A4E-9735-4374-BDCA-CD35AB6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B7309-641D-405D-B0A8-A2B3EEA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B5A2-8CD6-472E-8A4D-D0C2AFC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3B7C3-BDAF-406B-B349-C1B0BE4F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54F1-F866-45E6-8E02-1305ACDB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D007-7B13-4954-93A4-1537402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4367-3FDB-4936-A37F-ACD8D38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CD73-9191-4553-8A5C-4C5E746F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BB82-75C4-4317-A2CC-ACC7AC25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9029-9B8F-4C75-B742-FF28AA9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1F3E-812D-43EB-B07C-40EA506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3EE-C1D6-4199-9A92-C7A12D8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0BE7-CBD7-45D8-A572-D1E4E87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C395-6A61-4D61-B1EE-48C1906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050E-B8CA-40C4-A273-7F082F2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BA0D-034B-40E9-AFB9-E4766847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C9816-F1ED-402D-8E7E-9C2A233E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A60E6-18FB-4BD1-8BD1-2E3C9E8C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579D-A36E-4995-B739-1574BAF9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80CB9-4903-4290-A0AA-CF9F257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BB6AB-930A-4D5C-89AC-04DE5563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6A69-9B1A-44AC-B99F-28F7869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D88-9905-4FB7-9E59-CAB3957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255B-1439-41ED-8D3F-5AE53445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2415C-EB21-42B6-9FF5-FC525D1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CDA3-C764-4D4E-B4F1-597D6F3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58D3-7C40-4D0C-8752-57BDB94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FACDE-5BA5-45FC-A884-B8947FED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FDAD-2910-470F-B7B0-B388FCC5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1E711-1777-4693-8B3E-8001CAFA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6936-22AA-4997-A9DC-2D0FCB5E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C39F-BF25-4F90-A2F1-3A31770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C763-54C1-4954-993F-40FC576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AEF-1E0E-47B7-A987-3BF782E3C98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B42C-B1A6-498F-9C19-A1A7AACB161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C72-2B10-44F2-95A5-248AACC7A34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BC2B-4B91-415E-9567-5E5B3C60EB5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B5EA-2244-48EE-BF28-DD399B029CD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AF2E-C548-4789-B6CC-81BD1CD2127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3852-064D-4E53-B946-DCDBA0FD634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23B-622C-40BC-9F71-594190E38D8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C63-6AE6-4EEE-ABB5-535E0A94A31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2F3-5E15-4B04-96DE-7757B1E20AF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1F25-5D56-4056-BBFD-51C8A2A5E0E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E9F-B984-439E-8FA8-8614304D6FC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84C-FDDE-412E-9358-B907F68F06A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5F7-F83A-4A8C-B241-2CBB7CD95A9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AD9-6454-4DF5-8832-C48AD514CEA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5EA-3646-4D34-B0BA-DE3442F7FE0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ACB-F8F2-407A-ABDD-02C498A2840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927-7548-490D-96E1-D1D57424D3D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115-17D4-4E3C-A5D8-1423044FA55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945-69A0-445A-9FD6-24E4280630E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BC62-B3E4-4D74-A5DD-999AB0DE13D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580D-9FF5-4955-8F60-E6E49BB482F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29D-9ED2-445F-AB49-222B89C01FE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39ED-7759-46D9-AA5D-C9D9D0C47AB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905-372F-4819-A206-41075782144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2CC6-1216-4C95-A84F-D8FB55F21A9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F636-A499-409D-8BE2-D0197C54A19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9C3-2B6E-4DE0-9DBE-CA21BD7F65C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1CD3-305A-47B7-9852-124B2A8C30B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3F24-118C-433D-A25A-FB4BF9CF18C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57C-4C36-40B8-A9B0-C20E15D7FFC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5A8-D959-4874-8F14-055DD8E57BD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A20-20DD-48DC-BD76-23950F887A0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59A-216F-44D5-BFB4-E8B58D22E00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349C-30B0-4281-9F8F-E97E64BD277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FBE2-8AED-49E2-AFC1-16E2FCA8A47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A15-FB71-4BD2-AE97-5148377F0B5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372960" y="765000"/>
            <a:ext cx="82933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E645-ADDD-4EAF-839D-193E5850E83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547560" y="1413000"/>
            <a:ext cx="79362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398A-8538-4E08-982A-67A62B597F2C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971640" y="471600"/>
            <a:ext cx="72928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A4F-FABD-40C2-8893-F08333B2F39A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395280" y="1262160"/>
            <a:ext cx="82090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5932-1C61-431F-9CDA-56CD699E2D2F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1092240" y="426960"/>
            <a:ext cx="703404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3EA-C3AA-494C-9B95-02DBEBD87962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6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8B3F-90FB-496D-AA8A-020271C38A45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9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94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0:32Z</dcterms:modified>
  <cp:revision>4</cp:revision>
  <dc:subject/>
  <dc:title>PowerPoint プレゼンテーション</dc:title>
</cp:coreProperties>
</file>