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975-A714-47C6-BE08-C23429D0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081-4CD9-4E1A-94FA-B717965E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5BCD4-1B46-4422-A148-5903EB17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893A1-8311-4006-A2E0-5854BF95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8012A-E8AB-4A89-951C-F99BEEA3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68335-4990-424D-8C58-B13B9359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515D4-89D6-4DB9-A56E-4C180681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58345-20C8-44F2-8334-FA658651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6B47B-0047-4020-9675-D7B4365C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DB262-71E1-4735-BFA9-1FD8484D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A31E7-DE19-4B3D-A37F-CEE4EA0E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0103F-66BC-4B24-A24E-2E5DB8C1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21C-89DB-4170-9274-523B2967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97A8F-7DB7-40BA-B3DB-AFE41660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C5D73-D601-42C4-8B42-1E2ACA8E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FE453-4F83-47DE-90EE-463FC4AD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C8398-4AE1-4B8A-9B20-F9FD0945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413BF-73B0-4494-A72F-E5BB7ECA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7FB77-CC8B-4D48-9CAE-2DB2A23C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FBFE2-2C53-4029-AA21-1CB9041D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ECB9D-20E4-4D7D-93D3-3E6F37D7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F5A26-228A-4737-B623-4B97E059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84516-F408-4C08-ABE8-9DAC5EC5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6CB-308D-41BA-8916-FC17A5B4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374F6-9E11-4C91-B785-21DE2AF7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7E0AB-9636-4A09-8272-A062B739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55DAE-9D70-4669-A3D6-454A5F91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95F1D-587C-4079-9193-1EE70A28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1E1F7-BAD0-4E43-85F7-C6A4EEE5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417A2-2C26-4C7E-8859-614919FF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9AF1D-048D-466E-A54D-F2D12CAD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07E3F-48AA-426A-8DF2-5B98D105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01522-CFD0-4DA0-9DFF-CB588BED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DEE0D-65FA-4D02-934C-F4F6104B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905E-8993-411E-A8B3-2C9EF912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E58F1-B8A2-44A5-8415-2899846E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EC303-A7E8-470F-9A58-16C6197C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E915F-001B-4F50-BCFC-5B122431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4210A-6B96-436C-AAE1-DC1557A1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A76FE-32DB-4706-9211-D74310E5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E44AF-8081-4A22-AC90-76C10403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B4306-D339-4DB8-8C27-9829ED86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F1779-C921-41CB-94F7-5AE07778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E9CC4-F2A5-4370-92BA-26A860CE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43E72-A6BA-4093-919F-2ECDAAF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FEE8-9997-499E-9193-851BABA6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438AA-86CC-4054-8349-EA7C03FA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63877-6EC5-4889-962D-037970BF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3057D-F355-4C38-8F2B-885830BE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279B4-CFE9-4356-A020-EDA9F08D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0FA83-114D-4207-A028-2356CA92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D9E03-13AE-4F64-BFF8-BA370BCF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739CD-DF3B-4742-BBD4-ECE7056A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FF40D-A160-4A51-BAEB-224A1F1B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61C7C-4A1E-4DF2-AA86-8BF7E605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33DEE-993D-4810-8FB4-4D07371E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CD23-4566-4778-9AA9-EDD7FF1D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70B95-1247-4E33-9332-D2EE6B90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E7BF1-3D91-4DBF-A7BA-351047B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31692-4DAC-40AB-999F-DE556B82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DEEFD-0D89-4E39-AF6C-1184C702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F83E7-8686-4046-B05D-5B93BC2D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53368-D476-4128-BCA3-5BD8587D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E4263-42C7-468B-A97C-7D7C1DDC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F6D00-1252-41FD-854C-EA74316B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CC4A7-F119-4402-8A15-0C03EFF2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92270-E2A0-441B-A265-E7E2A5A3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B4BB-AFE6-4BF5-8693-7C61C0C8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D9427-C3C7-47E1-AEC2-C4FC3323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E455A-C8E1-4B78-89F3-555B96FF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C5526-5C7A-45F5-85EB-B5313E6A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1EB91-024A-43C8-B5B3-FD6AD67D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6283A-6F44-4DD3-92BC-542FF81A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13569-1E22-4B1D-8590-BB60B4F5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F6D3B-EC8E-477E-A77B-AE5E1CE9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D1C72-8BC0-4C10-94F2-CB2646CE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24C1E-E670-4BAC-AA86-B299B1FE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53CFC-1997-49E8-A35C-1E2E0808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FA9C-51E5-49D7-8162-C4C6F6DF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AB392-C5C4-4A27-8434-2741EDAE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115CF4-0CCD-46C4-B0C7-EF0E9714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2D904F-AA8C-4A44-9E9D-17F20BF5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90F1C-4D68-445C-A661-48B8D970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6F4AB-4D13-4219-B99E-46EB2F0A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1EFE3B-977A-4543-9C7C-9F5CBE3E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790C2-81BD-404A-A268-4FFA811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18BE3-09F1-4617-8129-A02A158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073A48-CE3E-497F-9540-E4E46F8F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A210B-79E1-4975-82EB-B430BEFB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0268-41CF-47DE-BBFF-323C2DD6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2E944-8084-424B-9346-B7C7AF9E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AB7A64-5643-4F9E-87CB-36861A12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D61D1-4F35-487A-95A5-9914075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7F387-0506-4B49-8616-070F2B46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08BB78-2D20-4B1D-944A-72830B05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D7DF4-5FF4-4976-B702-03A3A281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55E10-27EC-4EAA-960D-8E8A8995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BDAB9-1104-4888-87D5-D0F8CEB2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8A8A0-0431-409F-B1BC-A572F492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85A7F-9147-40ED-BF8A-EADB31B3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AEE4-0E6E-4839-8F90-B5EB55DB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F545B-BF0D-49F0-8A3F-F98C2EB7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AF4C5-A924-4143-B626-96126AC7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434AE-7F84-4D0B-A1DA-30379973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9EFA3-CEAC-4D44-AA81-19004344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AF793-594C-44C5-A2F4-F2367821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BEF65-902A-41F7-B5AA-59D559C8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49BD4-C445-487F-89D2-CB8D3407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661827-BAC9-49DD-ACC9-C3F43C8F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13A3E-6829-4F52-8812-099F91D8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AD0493-DF18-45B6-AF27-D93F0DA1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A21-5D2D-4FA9-A94F-4BB8D4AC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1858-42A7-4917-8CFF-AEB2A7A7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DD632C-FD63-478F-8C25-77151F5E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0956B-8166-4214-8DF0-78D1FF51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EDFA6-21A4-463F-8A69-B98A255B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A08EF-60D5-4BE9-B873-096CDE47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54F09D-DBA5-49AF-A5C6-86568900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F1F4E-02AA-4DAE-8370-50F38317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20FEC-6553-46AE-8353-137B82F0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2E4CF-245B-4EE8-864C-D1271748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2C47C-39B2-4D87-82B8-A6C5A918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40D975-7D13-48AC-B68A-682BA02E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19B6-D60E-4E8D-B129-5045F1AA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AB159-0B8E-4F97-AC80-9D5CAFE6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A42426-8C00-4BF5-A1A3-5A76678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51513C-F914-4763-88DE-C7F1C1E4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24F24-FEE8-4C31-AB0D-16CF6B4F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ABFED-D8DB-463A-B5E4-0DFA9740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06805-5022-4DD3-BB26-EE9BB2B7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93B98-4FD9-4EB9-B6C8-034041F2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17E7D4-5808-4BBB-A66C-32CD011E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A1910-090A-4DEF-89F4-DFC9688C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001933-EE9F-4380-9E73-ADBF9C42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623C-7419-4129-8052-76826CA0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16393-7EBC-4CB5-B6AB-696CDA9A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2DF1F-2152-4422-A043-4DA2EDEC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724E5-9F70-4C50-8BBD-595F7B56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96CD35-98B5-40E4-8C25-22C344C7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AF686A-EE86-42CF-8C44-1C6F1E57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F7A92-9679-4853-81EE-186CD35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8E2F47-EC78-4269-B8EB-B51EA1B8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799CFF-7805-4541-AAF0-6C4CA98A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F1AAF-57C2-4628-8771-76D7A66C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14C2D0-3A01-420F-9E61-76F5A2EE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AC92-1A31-4A23-8EC8-A100A68D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2528E-A042-40E2-BD74-AC351BEA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8E538D-49FF-4D00-9696-784F7375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BF9AAE-632A-4514-BDE3-A8A0F548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2ACBB6-51D8-422C-801F-79055CD0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C270BE-3916-4064-B790-1DDD2010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62DD48-A51B-4A53-9902-27CBD80A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626B0C-BA7A-4DA6-916B-3961FE4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83CE6-987B-48F0-AFE2-C1EBE7F9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04DBE6-CE79-46F6-AEBA-6E8A7DD3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49517-CE8A-42B7-9819-0CC90CDA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65EF-6A0D-4D4D-AC64-057F0EAF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33D47D-1947-455F-AFD9-75E58E66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453E-5AD7-49ED-B546-BD7442B0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058D-D3F5-426C-902C-DC3D1745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06CC-17D1-45BF-B322-A7293D61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515F7-4D1F-438C-99EE-BEE483EA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8F3F-8B48-4898-BC31-5D84A054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649-4C5B-4825-8245-023E100F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4932-09AC-46F4-A0F6-5CA0473A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7E2E-B4CA-44DD-A045-F9121FE6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DBD49-A7A4-4D29-BF70-80250CE7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A40C-9AF8-447F-BD27-76188E4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D9DA-1570-472E-8BE2-73F7A48D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6E8D-0406-4EFB-80A8-8D6B0CDC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C6632-915F-4933-B5A1-B71EF779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B8AD-F2C6-468B-8965-1B51F668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27674-51E9-4D22-B8DF-633FF36A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A5957-F18D-470E-AAB1-20EA9160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C1F-0146-472E-B2B4-54C0B50A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7C7E4-AB4E-4B03-92CB-BBBBDA7B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4302-CE0E-4FA8-9196-8863C6CB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E5FC-9D07-4603-A6E8-F16678ED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3F1B-EB43-4EA0-8C2C-7BE81BC5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C5F8A-8F68-4A1B-9AD8-2CDC3D45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90183-A2CD-46D8-B63B-948826C5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2665C-0964-48DC-8FF0-A66EEB69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86179-74C9-493C-B5A7-336A8339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6A40-FD7C-4C3A-A824-E390DC41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31378-E60B-4F29-80FA-11084AC6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86D-B9FA-4103-9D10-DA1DEAF6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35B69-3040-4AEF-9546-3E516F4E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BB0EF-E0F1-4253-9988-C42ABA07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5843A-BC70-437B-A23C-55490115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7812-7430-4566-BCE2-B8D0F563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02D5A-06D9-43F9-A538-2FAC0FA3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58B07-96EB-44D5-9711-3071EAF6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AD83B-F489-457F-9F09-3225502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E140A-0291-4FC5-BFD5-F0A40C62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10AEE-0570-4D23-904F-61396C72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5C908-5546-47EE-A630-9261FC29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128-E72F-434F-882D-09D8BB80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3D57A-C850-4C28-A73D-D17982A7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6FF7D-CDD1-47C5-8324-3D19C3D4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61E11-D919-46D6-A803-F7C183FE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D2CDA-F976-4007-A18C-BD69CE02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DAB2-22F3-4C09-83F6-13E49E4F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4472D-7099-4D9E-A460-E51C7EF6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71E1-0F7C-409E-BE3F-5EBC8EDF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D8778-B219-4675-B35E-B5829CA6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10CAF-954E-463B-A9BB-EECABFF9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C3F8F-085D-4E5C-AF9E-9E991A11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753-9237-49DD-BF80-75538378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A85C8-7209-4197-831D-D90053D0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14FC0-EEB1-4CCA-9F77-1556B4B0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2D1F5-8162-4A25-98C3-7533EB0F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F82DE-CF9A-4A0F-9544-E613F807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47D36-2CE9-40DD-89EA-090B21C2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B8E7D-6C78-4222-AC8C-434A080E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EDB1E-7E7F-4448-A1E6-4CEA1105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67AEE-5FEC-4BB1-8959-ED71EA75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17BBA-602A-4120-8A35-160D8330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C39B7-B17A-48D5-8CD5-F49FBC4A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AFF-89BC-417F-9EBF-F4A73053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8A4FD-5F87-4230-A97F-5A5E5DDD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94148-BA0F-42D0-84E0-44BBA9FA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78070-2659-4BB3-92E6-D8D42DA6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54F2F-EB7D-4622-8110-68925C89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4AF6C-16FD-4F09-9865-8A7F0BA6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870A2-0D1D-4272-8643-B24EB2E2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FB18F-8A5B-4B25-9FF5-22AF0721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4F4FF-1B85-45B5-AFAD-2B7B31CE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06BB2-535C-4929-BBBD-FD324A08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1A614-5064-43E4-9B81-782FDE9A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883-E8DD-4781-8DDD-A82ECA9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2C652-9033-4003-9CEE-01CF9A5F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A01B9-F74B-4B58-8886-18FD56F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A5966-6668-4FEF-9AB2-88E892AD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52EDA-3507-447B-9C9C-ABE837C6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EE1C5-204F-494B-A016-6AA0A9A0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91D15-DCD9-4F9C-82A1-DB48C1D7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D2239-6FEA-4581-82D7-6A449878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2F39D-FDCA-4ACD-BE5B-0AA8BA85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7C9C5-92AA-42E1-98A0-39C929DF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E1582-71FB-401B-92ED-004EA892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12D2-7116-4654-A73A-A282247788A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5712-2E01-40E3-B401-B06A39F3B77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0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0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604A-F2A6-4AA2-BD55-DFA98FF7498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36C2-B059-4692-8A08-80DB9C7881B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FC79-53F3-4564-AEB5-2BC3763699C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49C7-6341-4265-83AB-1B6D74B39F4F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9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9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7AA0-CA8F-470E-B7FE-705A3D8D0F7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D307-709E-4617-8963-02016A0A2F07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4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4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93D3-5462-48C8-941B-28AC666E826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36F2-C25D-4D2F-BCD2-62ACCD1A478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8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8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59D9-60BB-47C6-82C7-EC8CCF27F58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3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3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16F0-9E39-49CB-8510-975FA2AF690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7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7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B4FB-9B36-4ED0-8BE3-2E76C6CFDF7E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05C0-203E-4B13-B3ED-F9EC973297DF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2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2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92E8-F6A4-4778-A4AF-3E7E055C6DF7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B940-EEF7-4535-A8CF-35B62DA48F1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6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6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2E69-F22C-4075-9FC8-F90085F7953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0E84-A77C-4A8D-9A05-E13946502D2C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1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1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5821-F166-4D69-9238-EBDC924A60BB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6ABD-DAE3-47BB-B10C-C97C8E389435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82F2-6350-4AE6-B9D0-7E178652611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B26B-E651-42C2-84C9-0BEB140CCA4C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5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5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D3DC-52A8-4952-BBE9-698C3B477A3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7488-71AA-47DE-BA62-66540C155DC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F6FE-9449-4658-ADF8-3B4DF443B14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9A1C-4B1E-4BEB-8C7C-69716E8AFA8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0C39-8470-4E30-8407-9D9231FFCEB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727E-0FB9-433E-B486-14409F5FA4BF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6A23-80BB-4DD3-BF0D-46AE5EBE2B7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BFDB-6025-4B1D-99E2-CEDE156DC00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7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209B-46BC-46BE-A662-E3151E9DCB8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00BB-FD3F-49B5-AFC3-F202E6589D1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1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1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7FA6-F337-445F-9F37-464EB35A48C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3D55-E609-4D95-9F69-24FCC26203C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6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6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62B2-5F3E-44DB-8D9B-2C9DCF38204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EFA6-24AC-46FD-BB42-19DDEFFC790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E722-F254-43B1-9A44-4A49CCDCFEDE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107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9235-C883-4EC6-9CB6-C11293F41B36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280F-8E9B-4BDA-8A7A-F71FDF304D95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8" name="Picture 2" descr=""/>
          <p:cNvPicPr/>
          <p:nvPr/>
        </p:nvPicPr>
        <p:blipFill>
          <a:blip r:embed="rId1"/>
          <a:stretch/>
        </p:blipFill>
        <p:spPr>
          <a:xfrm>
            <a:off x="539640" y="666720"/>
            <a:ext cx="81648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F681-BAC1-492E-B8C7-8039F3FBD9C3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0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395280" y="671400"/>
            <a:ext cx="831060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F2A4-C7D4-46BF-AABD-EBC9C7230BF4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3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4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056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4:55:55Z</dcterms:created>
  <dc:creator>浜田 匡</dc:creator>
  <dc:description/>
  <dc:language>en-US</dc:language>
  <cp:lastModifiedBy>浜田 匡</cp:lastModifiedBy>
  <dcterms:modified xsi:type="dcterms:W3CDTF">2015-02-17T05:54:47Z</dcterms:modified>
  <cp:revision>12</cp:revision>
  <dc:subject/>
  <dc:title>PowerPoint プレゼンテーション</dc:title>
</cp:coreProperties>
</file>