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CFF-FC7F-4F96-9D09-DD0E5E59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3F8-BABC-4B24-8EE7-1D859F09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612F4-6F7E-4F92-B05C-12080C44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30CDA-BA3F-4205-AE2B-58532D83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EAC43-109C-441C-84F1-3215BBB7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519AF-89AA-424D-BC3D-4BCB3BB3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AE36F-FAEF-439B-AD4C-72AF93EB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0CF66-44EE-460C-B3E4-FE2BA086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9D7B8-2F92-4AF2-8C4B-1F557BC9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E336B-44E0-458E-97C5-E2964F1A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AE45D-3C58-4CBC-A44F-F7AEE451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47F22-AE33-4AF4-AFC2-EA99C3E8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473-B954-4BED-95DD-4A788814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2579B-8C99-4322-842D-9D3AD7E5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42B64-A962-4925-8C7D-54452172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15905-6F4F-455B-BA15-0FEBC83B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07B39-344F-4318-B879-5C7C310E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80716-6375-42FB-85F6-A3825ACB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2D4D2-45C3-4E55-AA71-E4A44397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DEFE1-72BC-4BA0-BF1C-D0CFE45C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6E8D0-C3F2-4A00-A417-B4718FFD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D787A-431F-4E06-954F-C199E3AA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51912-76A7-44C3-8ECE-697F8C27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5B6-468A-4361-87BA-CF415AD2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4089E-4FA6-427B-A282-8981B5B6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D3C9-1E7A-486B-A8DC-C2877C69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9004-3BB9-4170-9ECD-ABC178CD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FEFC-60DA-4BD7-9CA6-BD55482E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71C3-673F-4913-954E-F5DDA185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89E0-DFE3-4867-8504-198378F2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7B3B-9039-483F-82EA-3CC18CA0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2C5E-A2CD-4187-BB2B-BA22A7E8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EFC-9C05-48FF-AD3B-343F1A7F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0672-C0AA-4A13-AA91-2870427A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6EED-8000-4A44-8373-A899E52F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6A59-430E-4E9C-A535-0DB1DF4D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DF37-A8ED-4582-B6D5-34912B43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5E0B-F92E-4BF9-A4B7-FC67699F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6CB7D-0295-46CF-A97E-E5A5F49C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D380E-633D-466F-A359-429F2928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F5C0F-E73C-4BF6-B852-043F912C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C80F9-AABB-4807-A0FB-55EED126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8BF92-4FD0-48A1-9D46-79B72C61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2B9-68E4-4BAB-9B90-B58D8CBF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5592D-E93A-4254-9DAD-4AC66D0F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566B9-812F-485E-AB08-FA139008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BFBF0-873B-4BE3-96F1-4ED65485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28A42-315F-40A4-B7D9-AB4BD890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357C2-3CD6-4BA5-971D-6B9551BD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4B188-0417-4761-8C0F-FB36DDDA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311AE-6973-4CB8-B847-A7F89D18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E22F2-F774-490C-ABA5-2254B7F9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82E21-8ED1-45C7-A0B3-99066FC5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3A55A-C353-4D5A-9E75-D3D23AB0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914-1B75-44C8-A546-67A0AFA6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12D57-6A66-4287-8B81-753F16AF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3106F-D4BA-4E95-BDA1-7AA90434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1D8BE-63C1-4D40-A013-A9FF5325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37142-353D-428C-8758-B86163F1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9393C-7B5D-4253-A0FE-AE069482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30B89-37DC-4DB3-9688-0291ED45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610A8-86E2-43B0-B3E1-810E5BB9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FB8AC-3A59-4CAA-946A-CADCD92B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936D5-3CB8-4D78-A32B-8D6E2479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07B6E-33D6-4F5C-8035-05731EF8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4FD1-EAFF-4424-AE97-109CDC32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AFFC9-FE36-4F28-AA32-765055B8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247B8-6295-4FC3-9239-CF553FF1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5F6A8-E263-47F0-A77F-2DD6E7F4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E2F6E-85CA-4663-BBD7-53D8ED81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BED0F-6204-4D3C-87EF-8D574DF0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B14C3-DF2D-402C-A254-C9D0CC42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0CA93-1A0F-418B-9D7E-DA77F48A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3EC94-520A-41E5-8EF2-5B1910FE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DE7AC-5C11-4B1B-A1CC-B678237B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E20D8-E419-4563-AC88-98EB6BF5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E31-1EDF-40E8-957E-400AF15B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60441-E824-449D-984D-1D5252C1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6FADB-7613-4BAA-8847-5A0CCAC4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86357-8DFA-4A0A-B187-00742DFF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718F9-9CEF-4B8A-85E5-99876A7B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15A93-CA54-44E2-84DE-7F6183A8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539EB-7740-4CA5-8D30-7AD32968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4D5A2-56F5-4BAC-9EFB-DD26757A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8C328-154E-4C0E-9E80-76BB706E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1BAAB-E997-4AC8-AC00-BC3CABEA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12F01-509A-4CCD-9121-AC56C092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EFD-41C7-4D59-B3C0-508EDEE1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F37A0-4755-46D4-8E98-693EA126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77C7A-FB66-4298-B5ED-18B36213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050C4-4C49-4788-8769-18FCD1AD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27999-3963-4831-AA56-4DFD424D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A4080-39F5-4798-9020-2B3F9B07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51B2B-A139-41B9-B03B-5EAAB764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C33E6-AC27-4486-8042-84A95067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795EC-AC9A-4767-89E0-7C8411CF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5182E-8B7D-447E-A11E-7BF270FA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0DFE1-F8CA-4568-9B00-4E553F20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BCD-0820-4554-86CC-38869719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37277-CD4F-4AB7-A28B-DDFC29AB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F3967-2716-449E-8FF9-CCD8C982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DCD11-B2C0-47D0-AE0B-7B13CB86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781DD-8A27-42A8-9FC6-7756C9C7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37508-85C9-4124-988F-CCE75741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14E8B-6D12-4340-9D30-3B9943CE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3F259-8E18-4AED-A5CA-4585978D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63558-2A9A-493C-9CC3-52E86DA2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2659E-A154-4443-ACC2-324167B4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1A102-6D0F-4356-B54D-2D3DF394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B75D-A5F5-440D-94AF-A27AEA8C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3BF33-0EFC-4BC9-B6A7-DB940231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CCB34-D275-499B-A6EE-2E9BD556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117FE-EE1E-44E4-9640-78EC6FC9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041C0-6DBE-4471-8F4F-46924809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44024-03ED-4991-996A-266391B6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C8018-2C46-4168-99EA-F65E2F9C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C9A7C-706B-4DB6-A016-5D12BFB6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E090B-67B6-4928-98B7-A72B5D48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9FBE9-07A9-4878-88F2-F5BCB0FD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60230-E82A-4722-AA4F-B7C14B73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1488-33FB-45B6-82D4-1060C5B3C93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DB09-CAFE-4C75-84C2-E4C1FA7CD91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0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0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E4B5-E9C2-4B85-9D41-55E537A773F4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88BE-1768-4B3F-9422-22D0C2506A01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5058-6455-4B1A-9434-EE0324CBEFF0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9EE5-B026-4374-8AD6-95AE48675CF2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9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9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E4F3-7AE4-4FCF-803C-2B1B3E84D5B4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F499-AB96-4962-9453-EA03421B35FD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3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3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52DE-681B-426F-A282-C9840A88F657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8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8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2560-00C6-43E1-BD03-E03BC896CBC1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2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2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A84C-A65D-4699-A326-CC863A2C773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01D3-B31A-4ABF-BB43-8F7D838C92E3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7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7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7D47-AF0E-463B-8222-388ADC12A94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EADF-06A5-468A-A3E6-103988097F84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1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1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AA4C-0EC9-40E9-9A42-D74B86977623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7544-6CFE-4B8A-8012-672D0AB72B15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6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6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0302-A595-48C9-A1F6-88E9FEC75682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AFAC-B5FD-4D5F-8F00-015150249B51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0202-E454-40D0-9AE7-359F7ACA7F9A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1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730080" y="1271520"/>
            <a:ext cx="7770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17C4-BDE4-46A4-9F96-A86358FBF766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4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458640" y="549360"/>
            <a:ext cx="8245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58E7-FFAC-41B7-8056-CC78A3942384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7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11F8-8834-441A-9715-0207F2AB24A4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0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593640" y="1052640"/>
            <a:ext cx="81550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9AC6-D7C8-40FF-B612-782529055093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3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514440" y="1601640"/>
            <a:ext cx="807552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4:55:55Z</dcterms:created>
  <dc:creator>浜田 匡</dc:creator>
  <dc:description/>
  <dc:language>en-US</dc:language>
  <cp:lastModifiedBy>浜田 匡</cp:lastModifiedBy>
  <dcterms:modified xsi:type="dcterms:W3CDTF">2015-02-17T05:49:14Z</dcterms:modified>
  <cp:revision>1</cp:revision>
  <dc:subject/>
  <dc:title>PowerPoint プレゼンテーション</dc:title>
</cp:coreProperties>
</file>