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3CD-65E4-4790-AABF-DBD3B79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01-C3A1-4107-8B21-DE1C5272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A543-A3D5-4080-9C01-80EC2E36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E71AE-EDAD-49EB-AE92-E8C849C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94781-A498-4E81-892F-3F44CB3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C562-E43A-4306-8436-56706D8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F4D2-14ED-49CC-80FD-C7CCEC8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8A4F-C304-4A94-96F6-6986263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DD09-4480-46E9-8693-17989C5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98B74-8142-417F-B621-BA7DF5A8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9F59-1A5A-4D35-8B15-3B988DAE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683FA-7715-4E45-9796-9C17A24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CCA-6C38-4407-AD8F-FF7061B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8528D-A3F2-4EA0-A258-71624C0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11516-FDED-4F80-8ACB-8D9D8699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2461-9030-4DA1-B80A-0DFB929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8FC94-14C7-455A-97CF-051960A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98FF-5F9A-4F0E-83F3-84063C19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B740B-E46D-4842-91AB-224087D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05666-5E13-49EE-BC37-7082EEC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B78CF-47B6-4C77-983C-8E385BA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E47B-973B-455F-8B46-60A9858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45BF1-2705-492B-AFEC-95BCA048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FEC-370D-4B09-9D80-11F64FBC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63C69-0F84-4A5F-A8F5-21794FE2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46D02-0372-4217-B85E-AD3C6179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D13A-E2F1-4BC6-B8D2-BD299BD2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76C3F-1154-4C40-81CC-A00DF40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99AAB-1489-4C04-BADA-ED8CCB8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157A-07F2-4025-A757-FD0F413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9EAEA-8FF6-4C89-BB8F-C4D88BEE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E93B2-4479-4E13-86D0-532D4C2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4F1B-6174-41D1-92A6-0C889C8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16868-617D-4FE8-ACC1-933FCF9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5D23-7E71-4B3D-A5A3-F20587C6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1B570-7090-4614-9CC5-C99758C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A947-CFCC-49AD-80B2-A92CD4C7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EE90-7B44-42DF-A6B5-AD29A1EB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18C51-6BC8-499B-B402-77C85EF7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F794F-395C-43AC-AB57-18A2D5F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62A6-EFCB-4398-9185-3474C6B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8468C-8178-4521-B2D3-3203D1E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561A6-994B-4C01-A863-21F4C07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857A0-2099-44AE-BFA8-1244F48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A7AF7-BD9B-4304-9785-C30FB583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9CD7-BFA9-4E96-BC7A-57FA610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2CF6B-8C8B-400C-95A4-1963E51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DE4F8-5267-4356-B212-96DAB10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0CBC6-154C-483B-817D-D6576E8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F5BD-8E8C-496E-AE7E-936B993C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B2829-B808-496C-9163-5A01E95C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3BD65-3CC9-49A1-B3D3-CE5FAAEB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D4FFE-A5F3-49F3-8E9E-87FA9188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151D1-2E00-427E-BB37-891207A6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4B365-BB3F-4925-8B7C-AFDD7BC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35A9C-5357-42EE-9C42-111A3D4C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820-1810-47A3-B073-4E9D9F5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A9F66-E719-41DE-B9DA-A493867A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077FB-E616-4F44-A4B2-274DAB4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DA8EC-C7FC-423F-8CFD-3BF57DB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65A0D-D955-4464-B995-B718453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6EEF4-F76F-40B5-AC17-96373187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74EDC-7CA9-4822-9B1F-4BA8401E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48953-B034-4340-84E0-4828A38D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4E3B8-AEA7-4EA6-9313-1B72115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2F7CC-8F92-4A91-9859-6ED78B2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18D43-53DE-45E9-8CB2-AA98727E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3578-6F1E-42DC-9D24-A327B06C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C96C3-77FC-4C18-9F14-6F9C8D9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A3227-5F06-4274-90A0-11253E4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D90FD-3D12-4710-9A84-CF10C77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78C84-B9A7-4656-AA14-907D4DF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3FC0F-53CA-4EBC-BE6A-3BE23FA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27DBC-F4CB-4807-866F-3F920F7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4E742-6683-483D-921F-0D5FF21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66A7D-E839-435D-93E1-00662B4A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53634-865D-4EF6-A055-9D3781B5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006BA-76F2-48EB-AAFA-66D6F545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D210-E081-4013-BAAA-433D9268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21FB4-95AB-4B0E-B4E9-DBE0EBA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13C36-105A-406C-9069-69715007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9F18D-2087-49C1-8233-7D551C6A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5468D-F1EE-4DE5-ACA6-1A59EBF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8CCF8-CB85-4BD9-B00B-7E8300E5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4CAF5-19CB-45D2-B1AA-AF26EC0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57C73-3EC9-457E-972F-5C09D3E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03A63-392C-438A-8248-A231A5A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0638C-C509-4547-9CAD-A6B4097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9A503-C6BC-45AC-86C0-1D0537BE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2CBA-6EAC-4631-98A7-784F9CB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3C061-CEEF-452D-A51A-6FDC414F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DFF3A-EE49-483A-8005-602A6E21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C9921-1316-4025-8A52-BCE6BFD4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CD197-6711-4069-8FAA-D672F8DE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D251F-DEF1-4077-87C0-7D06FC4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8B1B7-58A8-4E18-A194-287E3BC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FBD8C-F069-4515-B7C0-B501801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1B005-3765-4949-ACAE-1DD644C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30B15-42A1-42EE-8F34-C321CAA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DEF74-99C9-4E8F-B7F5-C394168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3134-4740-41B6-9A2A-226B90D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F2FAD-418E-4956-9AFD-6139AE0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0D6CD-2C17-4B2D-87BA-3D99FC98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DA8D4-43A4-4E1D-A156-4B6389FD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9ABBE-789F-4188-AF5A-CDB2D8A3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C2359-FA88-4006-8DAB-0099D31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F6D7E-F231-469A-A0CD-3D229451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F473E-D928-413F-B8CC-001D118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8E565-EA1D-4B5D-8446-F3284B60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50EA1-E6AB-4BCB-8F05-48277A5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13611-21D4-43B6-829D-F7ACC19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961-42D6-4C04-B6E8-841E6CE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4B0-6870-4629-AF1F-7C8DF06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BD1AC-6591-4537-8228-5CAD27B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37D58-E8D0-4548-9E45-49A1916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BE7DB-D119-4858-8E98-18F46ED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B8D93-A001-4FC2-BAE9-331F81E2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4EDB4-BB55-4C58-9FA8-C765E635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3856C-E521-466C-9E75-39C1A944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A552B-54F7-494F-A385-1387010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709A3-A7DA-4CE0-B5D9-070A3AF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12C20-139C-49AB-83C0-037D956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8E354-FA59-48A6-817C-CFFEAD1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7053-863F-4552-ADAA-414C197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3F55C-8176-4EBA-A40F-30ABBA2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25554-F531-4FD9-A08E-B08C5C6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D325F-9ADD-4460-BA58-DEA6CCD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C889F5-F5B8-414B-9A5A-5F45F26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E2557-4B04-4573-BE89-E0B1E3C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385B8-BB80-4EBF-AE89-07023998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21DB9-2BD8-4902-B6F5-BB85CA0D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98FAF-003C-44A1-BC73-BD01864D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48D57-2559-4808-8F20-4318249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305B7-4D2A-4FF0-B5F0-60468A2F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A513-014C-4F22-B0FA-E116065B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F1102-00B1-4E5F-BBBA-C001DE1C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F55B1-AA85-488D-ACBF-0E1579D8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6313B-5F41-4ECD-BEC5-30B6541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B9AFC-8ECF-46D5-A1A9-FEF9951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56D50-8973-41E3-BEF1-968605B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CEAD0-1694-44F9-862C-69CF92C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65A74-9422-4FFA-9661-6360A4E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F456C-5E71-4CCF-AD33-6162307B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35E57-6B3E-4D5A-B35E-4552DCA1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7AC37-040B-4C92-960F-5DA13FEF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7D2-EA4C-415B-B3D6-6098DFDD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D5403A-8ABC-4918-A440-CAE8FCBC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E73B3-A32C-4EF7-B1D2-2613DA8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D708F-FA58-4D3E-8A6D-170D305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B67EF-F8FF-4DFC-B6C0-E868ED4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30299-9803-4EE4-8E2A-B034B3C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05E0E-3DED-404F-B106-28C0524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FC90A-10E2-4A60-B00E-0DE0FDD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CFA07-62B4-437A-A1A2-6D17D3D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B559D-4CF4-4C50-B5F6-C8C108A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839DC-213E-4545-B3F6-BD711F3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DC47-1E77-4580-A65E-82BABC29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8144B-DA97-48F7-8CA8-2036550F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D117-B496-4B7D-B536-3F8EE12D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4585-0929-44CD-AF9F-3279AF2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A8A3-7FE0-4F72-B338-D6F11766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7D5B-E20C-4CA9-AAC1-BF5F9DEF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F10B-A08F-4F14-82AA-9F1CE45C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F7F-8E69-4101-951C-24BA79BF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BBB7-A5C6-49EC-BEDE-91119520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5129-5A3C-475B-97E9-5234E8C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6CA6-8B42-41E2-86D8-CFCC3B75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649F-A7B3-483E-BCE7-CB0A630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D395-BFD8-4638-BB66-AC2EA88C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15E6-4AE8-49B9-96BE-EDED1905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2D2D-C754-4E82-B0C8-2CBC490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199E-D44D-4DEB-B892-48BBA0C0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9F28-EB5B-465A-9B9A-47E9DBB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01A9-9B8C-43E1-BDC0-BA4EC96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AC0-6EA9-4D19-A909-04D65D47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A623-522D-4019-892B-C7E6C65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4860-77FC-40A5-A913-D2D46BA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CEC8-1BEB-49D8-B954-EA2B0D2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FA36-BCB7-488D-B630-C98DB5F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6EA7-D541-48EB-82DA-81E9696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E390-E21E-48E1-84B6-CF822F0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B103-75F1-41C6-A7D8-2AAF4DC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9E84-2F46-473C-8EFA-68D06D5B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6D9F-9C3A-4E90-806D-1CCB5255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C063-F1E6-42B6-802E-F6BACA29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8BB-C094-4B72-AAF0-4D0C9332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C550-733A-480D-B489-1E7C8EE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E11F-FA1B-47FD-9255-3CD5CDE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3D0F-6FC1-4E4C-B23F-3E81AEF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1A5A-6DAF-4521-865C-2D004D24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10A9-930E-45C1-B6AF-F25F1C6B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307C8-303E-4A15-94F2-AEF67CA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8DD2-50FC-447E-B857-70CC91B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B50D-0320-4951-A604-9FB04C0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07AD-3131-4CCE-B0E2-0F08A99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07F1-D17F-4CB7-B376-906FFB89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365-250E-40BC-8DB5-DEDCB79D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498E-8868-4A0A-85D4-36D841A9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ED46-714F-44C4-88A3-BDF8F9E2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B4B08-EFC4-4306-8178-078DC17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275E-441D-42B5-94E0-FF90245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62F5-0685-4E90-B559-ACFEAF6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67D3B-9C35-4554-8E1D-FEB4EAA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2C61-A880-48E5-90FF-4520E46A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5FA9-6FBB-4E7B-BD06-C1711C1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CC76-E11E-4F53-8ADB-55F2416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C971-5D32-4A25-8577-0BAA77D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24F-7044-42EE-8FC4-4689130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958BA-0DBF-4FE2-B8AE-5CB30AE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A6D1-CA2E-47F4-8BD0-361D6FF3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3162-BE92-43AF-9BAD-10FD847D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62CBB-6229-4527-A7E5-F166A548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021CA-02C0-4E2D-951F-919A708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D5E6-0551-408D-A148-465F2DC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C76E-2CCB-4080-A853-2699C2A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FD60F-C2E7-45E2-A2BD-79442A0C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295AA-65AB-4C9C-A04B-ADEBDACB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D9DE7-CF06-4A4B-8B61-9900642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072-C364-4212-AA31-1FC0F867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4C91-4021-4387-90CD-6C3720D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4563D-48E9-4250-A1B9-4BF6FCA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B100-644E-45EC-9EA0-2E1F33C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F3A5-DCD3-4CB7-A756-5A9A67BB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87C2-A212-400B-BBCC-3F4A462D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217B0-D738-4CEF-B3CD-F22AA2DE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5EC6-80D7-4225-8635-324B4274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4315-D445-4F25-9D5B-8AAED87D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0E66-3731-47C2-B478-5B9F9F60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70B5-253F-4969-B888-9D24E1B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2DD-F360-4105-9929-84FB46B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4BA7-0ADB-44E5-8C19-13F0AABF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4A47-8157-4200-ABC4-4A59E78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FB9E-7ECD-4CA0-9BB8-0EB3EB2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7FCF-51D5-4649-A09D-9833EBE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DC31-2716-4C22-BE88-F7B4802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2145F-7FEF-49EC-A3DE-B028330D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2E79-796A-46A4-8215-596D2028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03018-F556-4250-9498-81CBC891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26F70-931C-4F8A-A3A3-9841D91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464C5-508E-4491-86D6-90E4AF6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805-E0DE-4FAF-BC76-ADA22ED439C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B5C-2DE6-4F73-93FD-1701E2E7142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279-5A11-46A0-A417-FCA73852106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D01-F457-46FE-B934-C3A32DADE8E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ED6-17F6-4C14-A956-BE754FAC301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AF1-736D-4817-BF99-496B959F560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8BF7-DFE8-4E08-B71D-2E1D89E3404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6EEE-3B34-42DA-AF2D-E020EB228D8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0244-8DC5-4CC2-BEAE-3DB59C57A2CA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A28-990D-4239-B224-DF413CFB19E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0D53-39BA-469F-882D-E90B9A09A9F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F630-3684-41AE-9F5D-B43005771A0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7C0-9911-4656-8406-CD1E2E65A02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C4D-40B2-42AB-A366-FD34670F876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AE7-774E-44AF-A636-FE1DD8ECEBB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874C-F796-4BD3-8C87-762C75431AB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AA6-8596-47F9-9D3C-C99ACBF4B5A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A30-EDDD-4938-A89B-1E24D7B41D4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7E9F-170D-40C5-B725-F036E626DBB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0FCB-FBC3-4719-8961-73ABB85AFC6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0884-C082-47F8-B57F-45A4A9E25FB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BF19-1065-4B72-BB83-D1130E08900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1B35-FBA0-44B8-8695-97EB39546B8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72B5-EBBF-4798-BCE3-6B783BAF51C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5B4-5F7A-4ACD-AFC5-7898CFB7E15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D80-7081-4152-93CC-A339000A8211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F31-8137-4469-8319-3BA048D4BB3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0778-E518-4773-B4D1-6BE553422CC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3280-CF52-4AC6-A7BB-8D2FAA61B96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E69A-2F14-4904-8674-AE0E0468D50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E77-5281-4482-94A0-6D8D462387B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957-4120-4710-A0B1-3639C21CEE1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5AD-C962-4227-A3C7-2A75A233AD0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2E09-456C-46D2-960F-36850756A97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92D-CFBE-49B1-9A73-731A68E6ECC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CDF-D823-453A-906A-076FF6EBC0A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9A1-34C4-4022-8B85-40FB5BEAFA1D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368280" y="1628640"/>
            <a:ext cx="83534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265-3B45-419C-9C86-D28CC691437F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755640" y="438120"/>
            <a:ext cx="7848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C8D1-3E48-40CB-81E3-D6843CF841B7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411120" y="1052640"/>
            <a:ext cx="8244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74E-379E-47C8-AFC9-4515916A2DF0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407880" y="1125360"/>
            <a:ext cx="84582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867-A555-4495-AFAA-23869E82ABBF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50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4:14Z</dcterms:modified>
  <cp:revision>11</cp:revision>
  <dc:subject/>
  <dc:title>PowerPoint プレゼンテーション</dc:title>
</cp:coreProperties>
</file>